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6911975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47A-7F65-4238-848C-6F769DC6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D6D-8C9E-43AD-8542-8223C57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A0DBE-CC1D-48DC-9DB0-A02C6315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39769-60A9-4820-9A43-2839293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6FA2F-C473-4430-B412-CC8585FB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2676-9ADF-450B-A3AE-7B78380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09FE-FDD6-4C08-9C4C-B4DF4D1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E90FD-7D84-4B72-8731-B4DEF4BE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B8139-781F-4EBC-901B-B9EFD66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AE45-DDA1-4E1C-A356-47EF9F62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2112-7D7C-4942-8971-CF739BC1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BF54B-459E-4F88-91A7-6FEFD8A6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D69-5A44-4459-A827-486E5A44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59F9C-AEC4-4360-956F-86FD36EB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4236A-D834-44A8-B251-7AC0B16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D3075-BAF1-416B-B494-5B077C9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61EEC-1599-40AA-82E9-378CC80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47333-C0E3-46BE-A42C-2E2C0F9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CE71-F9FF-4819-A6E6-339A9EA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78665-C4B7-4992-ACD0-0916D19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B141D-2CA9-4CF4-AB4B-3CDC87B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DA119-28C7-4DE7-A5FA-B6A6774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462DE-AD76-4BBC-BF18-688325E3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9B9-FDEC-4871-B227-7AACC13F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40FD8-1877-446A-82CF-A91A0035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DF13-B6B4-45B9-B4C9-97223A3E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28998-9BDF-45C5-A8C7-6819368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79575-E0F0-4EDC-BD5D-4C67B43C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F2B08-D29E-4F9F-8C8E-47282D5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D3CC2-9596-4C18-89F6-79BFAD5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0BA51-F305-48BF-A3A6-B9CE60F8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E5BBA-5C57-40AF-8152-3D7009B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665D7-A4A9-4AC4-B0C6-B61A003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836AD-43E2-4D3E-B7DC-AC27BCB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E4F4-0869-4681-A441-1216E29B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36C1E-D9A3-443D-831B-32454A6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37B4B-63BB-4940-BBB5-CAA41A0C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3C63-B94D-486E-A4BD-EA7FB45F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04E25-2CB1-4024-9FBE-E19292E7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F526F-CD42-477B-9A71-158B2932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2007E-6D94-45FA-B6D7-CADB15F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5B3AA-827E-4721-94DD-C55273B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7772E-D437-423D-8E5B-91DD120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DBD4A-02A3-4EB8-8022-819AC7FB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CCEA4-3AA9-4F99-AB07-973C9C1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C7BBA-A6C6-4356-847D-60B3202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BDFB9-0133-43E4-9E6F-5AE5C03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459A9-2BAD-4D1A-ABFA-5875AB8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9E4B-FB0E-4C30-A4DB-2EB0793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D912A-950D-469C-B338-55912B96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4EC8E-A928-4A88-9695-189FDBE1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B598C-966A-4227-AECC-775AD38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DE115-09F0-45FD-AE5A-92AD161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9970-A1B8-499E-980D-231B5F12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0544-C744-42B9-BC67-1DBFA214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AF712-A8B5-49EB-ACAD-9385FBD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C34-4A38-46DE-B715-FC058B62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F04C0-F0C7-4E12-AC0F-FE3385B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D731-FB15-431E-829E-F084985F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F1B4-791B-4EA4-BFEB-450039F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048BC-A6AE-4E8C-9DF4-B3A042C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FC789-57F8-4F36-9BA3-08A5A8E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AD1B-F2D8-444C-8BD3-A5514E38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16CB-09AA-4836-A940-C746D87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1561-6B9D-465C-BC57-C4202622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29A3-726B-495D-96EF-7A3D3BC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54A2-E12D-4FA2-BB9B-B3369E63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512-F826-44CE-82B0-16F8102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8232-5F2B-4CBB-9829-0E93AA5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8EB0-6222-496C-AD5B-383FEFA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D314-A58C-4C16-AB0E-BADFFEA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6714-1535-4871-BAD4-20E8779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D412-EB06-4B03-A9C9-E95048D2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0F37-E9DF-4AEF-A62F-1972C429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459F-5661-49BD-B439-3243BE92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DE930-D8DA-4BB3-B861-0043F35A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16FCA-0963-4C3A-8954-20221971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B54C1-3294-47C4-839A-E242A9BD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A72-7054-4DF6-8847-06FCAB9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8104F-5600-4AF1-A8D7-D8900C0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F5EC7-E93F-4CBC-A6F6-1D1A6A1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C7AC1-98BB-41BB-A2DF-40D5203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BBA50-99B7-43C2-88D9-976F9673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2014C-4539-4648-9458-B333B78A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6B40F-A633-4696-B364-BA95F07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B53F5-8524-415B-B7A4-1745841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4C6D4-2DA4-4445-AB9F-8C8CC57A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2E3B4-6C3D-4439-97C9-BF85E3C5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814B-A966-49DA-B14C-D7045D87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EA4-8C64-4507-A266-83684494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3AB9-6A41-438D-A25B-AFE5B64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E0D01-6210-48C0-B131-83BCADF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EBD1-E7B9-4D33-B904-580F2CF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B530-46E1-4EE5-A8A0-E024FBA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15C8-CB36-4876-AB1A-7FB2077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31DA9-3E3D-45D9-B550-4DAE644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C767-A8E8-4876-9167-9C6260E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9721-AD88-4E39-A8C3-D8E3D838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C29C-D2EB-4C98-A5C0-E1FC8E3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A755-B107-44D4-8655-FDB99960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633-E569-4F32-94F3-09A32D4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1B49-181B-4401-B22D-5E3D5E52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60140-5B47-41C0-9498-DEF28912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15045-B907-4DB5-8C6D-E08F5254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0E7E0-3F54-45AF-99CF-9D1503F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3ABA3-491D-4974-9FC7-65761C7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2357-89FB-46E5-9BEB-BFC256D0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FD562-23DE-4123-86A6-434A581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883B-8A84-439F-9840-72F490E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EAE9-7AA1-4C05-A1E1-38B59BA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A019-B7AD-45ED-A576-000DF17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D73-0210-4160-AA4B-BEE1778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7F51F-F5FD-4D4E-85AF-6A69BCDA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C249-6B8D-409B-8EF3-0D8EB51D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4C71-3F3E-4467-AE42-A618E144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7573-2E60-4661-A98D-AD538449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619DE-1E06-4637-955E-5B174374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8964-348A-448C-BD8F-944B8D6F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05B31-0557-4A36-8975-12433425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8C30-1354-4140-A046-327F9CF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D62BF-F792-41BB-BCF1-A5C2EDA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FD4E-A1B1-4073-8EDF-53018DD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53D-3D3B-48D2-BDAE-74AAC95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9ABC9-24A3-490B-B12C-7389B7B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89B5-2002-479D-AAFE-6C1BB4F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4451-E698-4D2B-95A0-159CFAA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CB47-F6CA-4DCE-BEFE-D03B4491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E64A-6FF5-44C1-ABA8-AFBBBE26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CC6C-09E5-4F6C-A6AA-09AA262F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E8660-988F-421A-ABA0-CBE3640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F7AF-653E-4993-BB95-FB114C9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0B708-C53A-4D92-A7C8-21D323B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E4AF4-D934-41D7-98AE-FBDCAA89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9D1-54E5-4ED5-95E1-67BA5485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748800" y="1081080"/>
            <a:ext cx="5875560" cy="4563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E9CDC-73DC-4211-B3E2-5272DA4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3FC4-00B0-443A-A70B-3731091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3C1C-E67B-4A15-8241-76F22A0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1DDD2-6263-43E5-9B8C-90C21886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748800" y="2766600"/>
            <a:ext cx="51260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1364B-D307-4758-B5CC-4B31FDF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375360" y="224748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4880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3375360" y="2766600"/>
            <a:ext cx="250128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F947-8388-4B15-AAE7-598D5BC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4818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215240" y="224748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74880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4818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4215240" y="2766600"/>
            <a:ext cx="1650240" cy="4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F86C-7B7F-4D8B-A8EA-F3686780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95B7F-53FC-4788-B618-73B5A801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D9763-1455-4010-BD13-98B01412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48800" y="2247480"/>
            <a:ext cx="512604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5DF67-88AC-4322-9D26-2D027D68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165240"/>
            <a:ext cx="6220080" cy="785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1081080"/>
            <a:ext cx="6220080" cy="2333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82000"/>
          </a:bodyPr>
          <a:p>
            <a:pPr marL="190080" indent="-1900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411120" indent="-15876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632520" indent="-12600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885240" indent="-12600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1139040" indent="-126000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139040" indent="-12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139040" indent="-12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3541680"/>
            <a:ext cx="21873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9C3E3F6E-4543-4E51-862A-782C1623B35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241200" y="993600"/>
            <a:ext cx="6670800" cy="2910240"/>
            <a:chOff x="241200" y="993600"/>
            <a:chExt cx="6670800" cy="2910240"/>
          </a:xfrm>
        </p:grpSpPr>
        <p:sp>
          <p:nvSpPr>
            <p:cNvPr id="798" name=""/>
            <p:cNvSpPr/>
            <p:nvPr/>
          </p:nvSpPr>
          <p:spPr>
            <a:xfrm>
              <a:off x="252000" y="993600"/>
              <a:ext cx="6660000" cy="289656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3600" y="2160720"/>
              <a:ext cx="6278400" cy="17294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1200" y="2140200"/>
              <a:ext cx="4145760" cy="259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3600" y="993600"/>
              <a:ext cx="5872680" cy="259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1200" y="2140200"/>
              <a:ext cx="36000" cy="17636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3600" y="993600"/>
              <a:ext cx="34560" cy="29048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48800" y="1081080"/>
            <a:ext cx="5875560" cy="9842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748800" y="3541680"/>
            <a:ext cx="14367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2622600" y="3541680"/>
            <a:ext cx="21873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5243400" y="3541680"/>
            <a:ext cx="14385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4E497B30-2D4D-4070-A0E5-0BCD443DCA1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617400" algn="ctr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925560" algn="ctr"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235160" algn="ctr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0" y="0"/>
            <a:ext cx="6912000" cy="3931920"/>
            <a:chOff x="0" y="0"/>
            <a:chExt cx="6912000" cy="3931920"/>
          </a:xfrm>
        </p:grpSpPr>
        <p:sp>
          <p:nvSpPr>
            <p:cNvPr id="846" name=""/>
            <p:cNvSpPr/>
            <p:nvPr/>
          </p:nvSpPr>
          <p:spPr>
            <a:xfrm>
              <a:off x="0" y="1987560"/>
              <a:ext cx="3017880" cy="17733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2247120"/>
              <a:ext cx="2534040" cy="14439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10280" y="2910600"/>
              <a:ext cx="4401360" cy="84852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0" y="471600"/>
              <a:ext cx="1167480" cy="10756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25360" y="720"/>
              <a:ext cx="3083760" cy="20401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29640" y="720"/>
              <a:ext cx="2621880" cy="1357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0" y="584280"/>
              <a:ext cx="978840" cy="7254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1390680"/>
              <a:ext cx="914040" cy="96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76680" y="3088800"/>
              <a:ext cx="3818520" cy="6703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0400" y="1141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4800" y="1177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0" y="362952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3629520"/>
              <a:ext cx="6912000" cy="3024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0920" y="205920"/>
              <a:ext cx="3825360" cy="18219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12800" y="263520"/>
              <a:ext cx="2572560" cy="160848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8280" y="1555560"/>
              <a:ext cx="3393720" cy="212976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91880" y="1674360"/>
              <a:ext cx="2594160" cy="174096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45960" y="156960"/>
            <a:ext cx="6220080" cy="6490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345960" y="907560"/>
            <a:ext cx="6220080" cy="25686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1080" indent="-174240">
              <a:spcBef>
                <a:spcPts val="55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94080" indent="-138600">
              <a:spcBef>
                <a:spcPts val="55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97164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250280" indent="-1386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5" marL="125028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6" marL="1250280" indent="-138600"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31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32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33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81F99ABF-137C-48D7-A898-10F35D11897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"/>
          <p:cNvGrpSpPr/>
          <p:nvPr/>
        </p:nvGrpSpPr>
        <p:grpSpPr>
          <a:xfrm>
            <a:off x="0" y="0"/>
            <a:ext cx="6912000" cy="3931920"/>
            <a:chOff x="0" y="0"/>
            <a:chExt cx="6912000" cy="3931920"/>
          </a:xfrm>
        </p:grpSpPr>
        <p:sp>
          <p:nvSpPr>
            <p:cNvPr id="906" name=""/>
            <p:cNvSpPr/>
            <p:nvPr/>
          </p:nvSpPr>
          <p:spPr>
            <a:xfrm>
              <a:off x="0" y="1987560"/>
              <a:ext cx="3017880" cy="17733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0" y="2247120"/>
              <a:ext cx="2534040" cy="14439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10280" y="2910600"/>
              <a:ext cx="4401360" cy="84852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471600"/>
              <a:ext cx="1167480" cy="10756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25360" y="720"/>
              <a:ext cx="3083760" cy="20401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29640" y="720"/>
              <a:ext cx="2621880" cy="1357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0" y="584280"/>
              <a:ext cx="978840" cy="7254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0" y="1390680"/>
              <a:ext cx="914040" cy="96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76680" y="3088800"/>
              <a:ext cx="3818520" cy="6703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0400" y="1141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800" y="117720"/>
              <a:ext cx="1080" cy="72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0" y="362952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0" y="3629520"/>
              <a:ext cx="6912000" cy="3024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0" y="0"/>
              <a:ext cx="6912000" cy="259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0920" y="205920"/>
              <a:ext cx="3825360" cy="18219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12800" y="263520"/>
              <a:ext cx="2572560" cy="160848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18280" y="1555560"/>
              <a:ext cx="3393720" cy="212976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91880" y="1674360"/>
              <a:ext cx="2594160" cy="174096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19120" y="1036800"/>
            <a:ext cx="587376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34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35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36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6939B984-8680-4697-909C-3A72FC7F330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617400" algn="ctr">
              <a:spcBef>
                <a:spcPts val="4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235160" algn="ctr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120" y="1131840"/>
            <a:ext cx="5873760" cy="812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 anchorCtr="1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1590840"/>
            <a:ext cx="1440" cy="172080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362320" y="3541680"/>
            <a:ext cx="21873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495252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AE067052-9FF3-4074-A55A-59E424F6D2D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345600" y="3541680"/>
            <a:ext cx="1613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617400" algn="ctr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1235160" algn="ctr"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6912000" cy="3889440"/>
            <a:chOff x="0" y="0"/>
            <a:chExt cx="6912000" cy="3889440"/>
          </a:xfrm>
        </p:grpSpPr>
        <p:sp>
          <p:nvSpPr>
            <p:cNvPr id="84" name=""/>
            <p:cNvSpPr/>
            <p:nvPr/>
          </p:nvSpPr>
          <p:spPr>
            <a:xfrm>
              <a:off x="0" y="2765880"/>
              <a:ext cx="6912000" cy="11235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6912000" cy="27658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2840" y="3551400"/>
            <a:ext cx="2189160" cy="3459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3414600"/>
            <a:ext cx="5931720" cy="485640"/>
            <a:chOff x="0" y="3414600"/>
            <a:chExt cx="5931720" cy="485640"/>
          </a:xfrm>
        </p:grpSpPr>
        <p:sp>
          <p:nvSpPr>
            <p:cNvPr id="88" name=""/>
            <p:cNvSpPr/>
            <p:nvPr/>
          </p:nvSpPr>
          <p:spPr>
            <a:xfrm>
              <a:off x="1785240" y="3414600"/>
              <a:ext cx="3887280" cy="4824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982960" y="3414600"/>
              <a:ext cx="2948760" cy="485640"/>
              <a:chOff x="2982960" y="3414600"/>
              <a:chExt cx="2948760" cy="485640"/>
            </a:xfrm>
          </p:grpSpPr>
          <p:sp>
            <p:nvSpPr>
              <p:cNvPr id="90" name=""/>
              <p:cNvSpPr/>
              <p:nvPr/>
            </p:nvSpPr>
            <p:spPr>
              <a:xfrm>
                <a:off x="4736880" y="3420720"/>
                <a:ext cx="1194840" cy="479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11920" y="3414600"/>
                <a:ext cx="222840" cy="35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35280" y="3505320"/>
                <a:ext cx="453240" cy="2437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52760" y="3480840"/>
                <a:ext cx="185760" cy="6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960" y="3474720"/>
                <a:ext cx="50040" cy="727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3414600"/>
              <a:ext cx="4770720" cy="4813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4840" y="3414600"/>
            <a:ext cx="4295160" cy="482760"/>
            <a:chOff x="474840" y="3414600"/>
            <a:chExt cx="4295160" cy="482760"/>
          </a:xfrm>
        </p:grpSpPr>
        <p:sp>
          <p:nvSpPr>
            <p:cNvPr id="97" name=""/>
            <p:cNvSpPr/>
            <p:nvPr/>
          </p:nvSpPr>
          <p:spPr>
            <a:xfrm>
              <a:off x="1435320" y="3414600"/>
              <a:ext cx="437760" cy="262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31360" y="3447000"/>
              <a:ext cx="2438640" cy="4503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96000" y="3441600"/>
              <a:ext cx="84960" cy="54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6360" y="3458520"/>
              <a:ext cx="192960" cy="1479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440" y="3469320"/>
              <a:ext cx="70560" cy="54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4840" y="3430440"/>
              <a:ext cx="293760" cy="1868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960" y="129960"/>
            <a:ext cx="6220080" cy="647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45960" y="907920"/>
            <a:ext cx="6220080" cy="254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1080" indent="-1742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94080" indent="-13860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71640" indent="-13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250280" indent="-13860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250280" indent="-13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250280" indent="-13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8BDD2DFB-5259-4B3B-839C-0A3B1EF8A8A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4680" y="11160"/>
            <a:ext cx="6912000" cy="3889440"/>
            <a:chOff x="-4680" y="11160"/>
            <a:chExt cx="6912000" cy="3889440"/>
          </a:xfrm>
        </p:grpSpPr>
        <p:sp>
          <p:nvSpPr>
            <p:cNvPr id="145" name=""/>
            <p:cNvSpPr/>
            <p:nvPr/>
          </p:nvSpPr>
          <p:spPr>
            <a:xfrm>
              <a:off x="-4680" y="2777040"/>
              <a:ext cx="6912000" cy="11235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4680" y="11160"/>
              <a:ext cx="6912000" cy="27658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718160" y="3556080"/>
            <a:ext cx="2189160" cy="34452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3422520"/>
            <a:ext cx="5930280" cy="482760"/>
            <a:chOff x="-1440" y="3422520"/>
            <a:chExt cx="5930280" cy="482760"/>
          </a:xfrm>
        </p:grpSpPr>
        <p:sp>
          <p:nvSpPr>
            <p:cNvPr id="149" name=""/>
            <p:cNvSpPr/>
            <p:nvPr/>
          </p:nvSpPr>
          <p:spPr>
            <a:xfrm>
              <a:off x="1784160" y="3422520"/>
              <a:ext cx="3888000" cy="4827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981880" y="3422520"/>
              <a:ext cx="2946960" cy="482400"/>
              <a:chOff x="2981880" y="3422520"/>
              <a:chExt cx="2946960" cy="482400"/>
            </a:xfrm>
          </p:grpSpPr>
          <p:sp>
            <p:nvSpPr>
              <p:cNvPr id="151" name=""/>
              <p:cNvSpPr/>
              <p:nvPr/>
            </p:nvSpPr>
            <p:spPr>
              <a:xfrm>
                <a:off x="4736160" y="3428640"/>
                <a:ext cx="1192680" cy="4762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10840" y="3422520"/>
                <a:ext cx="222840" cy="35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34200" y="3513240"/>
                <a:ext cx="453600" cy="2440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1680" y="3489120"/>
                <a:ext cx="186120" cy="6660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81880" y="3482640"/>
                <a:ext cx="50040" cy="727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3422520"/>
              <a:ext cx="4771080" cy="4820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74840" y="3414600"/>
            <a:ext cx="4295160" cy="482760"/>
            <a:chOff x="474840" y="3414600"/>
            <a:chExt cx="4295160" cy="482760"/>
          </a:xfrm>
        </p:grpSpPr>
        <p:sp>
          <p:nvSpPr>
            <p:cNvPr id="158" name=""/>
            <p:cNvSpPr/>
            <p:nvPr/>
          </p:nvSpPr>
          <p:spPr>
            <a:xfrm>
              <a:off x="1435320" y="3414600"/>
              <a:ext cx="437760" cy="262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31360" y="3447000"/>
              <a:ext cx="2438640" cy="4503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96000" y="3441600"/>
              <a:ext cx="84960" cy="54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6360" y="3458520"/>
              <a:ext cx="192960" cy="14796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440" y="3469320"/>
              <a:ext cx="70560" cy="54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840" y="3430440"/>
              <a:ext cx="293760" cy="1868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960" y="820800"/>
            <a:ext cx="6220080" cy="9856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4560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4952520" y="3543120"/>
            <a:ext cx="16131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9178BB98-2FD4-4AC8-910F-09EED68D40D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617400" algn="ctr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92556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235160" algn="ctr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2351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2351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750560" y="-18000"/>
            <a:ext cx="2233800" cy="1875960"/>
            <a:chOff x="4750560" y="-18000"/>
            <a:chExt cx="2233800" cy="1875960"/>
          </a:xfrm>
        </p:grpSpPr>
        <p:grpSp>
          <p:nvGrpSpPr>
            <p:cNvPr id="206" name=""/>
            <p:cNvGrpSpPr/>
            <p:nvPr/>
          </p:nvGrpSpPr>
          <p:grpSpPr>
            <a:xfrm>
              <a:off x="5720040" y="1418760"/>
              <a:ext cx="759240" cy="427680"/>
              <a:chOff x="5720040" y="1418760"/>
              <a:chExt cx="759240" cy="427680"/>
            </a:xfrm>
          </p:grpSpPr>
          <p:sp>
            <p:nvSpPr>
              <p:cNvPr id="207" name=""/>
              <p:cNvSpPr/>
              <p:nvPr/>
            </p:nvSpPr>
            <p:spPr>
              <a:xfrm>
                <a:off x="5720040" y="1418760"/>
                <a:ext cx="75924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92560" y="160560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95000" y="819000"/>
              <a:ext cx="759600" cy="427680"/>
              <a:chOff x="5895000" y="819000"/>
              <a:chExt cx="759600" cy="42768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5000" y="819000"/>
                <a:ext cx="75960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67880" y="100584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784400" y="0"/>
              <a:ext cx="759600" cy="427680"/>
              <a:chOff x="4784400" y="0"/>
              <a:chExt cx="759600" cy="427680"/>
            </a:xfrm>
          </p:grpSpPr>
          <p:sp>
            <p:nvSpPr>
              <p:cNvPr id="213" name=""/>
              <p:cNvSpPr/>
              <p:nvPr/>
            </p:nvSpPr>
            <p:spPr>
              <a:xfrm>
                <a:off x="4784400" y="0"/>
                <a:ext cx="759600" cy="427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57280" y="186840"/>
                <a:ext cx="182880" cy="802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750560" y="-18000"/>
              <a:ext cx="2233800" cy="1875960"/>
              <a:chOff x="4750560" y="-18000"/>
              <a:chExt cx="2233800" cy="18759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5284800" y="228600"/>
                <a:ext cx="1132560" cy="626760"/>
                <a:chOff x="5284800" y="228600"/>
                <a:chExt cx="1132560" cy="626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284800" y="228600"/>
                  <a:ext cx="1132560" cy="62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7520" y="457920"/>
                  <a:ext cx="224640" cy="11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750560" y="-18000"/>
                <a:ext cx="2151720" cy="1299240"/>
                <a:chOff x="4750560" y="-18000"/>
                <a:chExt cx="2151720" cy="129924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5981400" y="467640"/>
                  <a:ext cx="713520" cy="674640"/>
                  <a:chOff x="5981400" y="467640"/>
                  <a:chExt cx="713520" cy="674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711400">
                    <a:off x="5950080" y="62748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711400">
                    <a:off x="6397920" y="884880"/>
                    <a:ext cx="26928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5940000" y="387000"/>
                  <a:ext cx="931680" cy="674640"/>
                  <a:chOff x="5940000" y="387000"/>
                  <a:chExt cx="931680" cy="6746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103600">
                    <a:off x="5905080" y="579960"/>
                    <a:ext cx="7038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103600">
                    <a:off x="6482520" y="808920"/>
                    <a:ext cx="3776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933160" y="380160"/>
                  <a:ext cx="956520" cy="527400"/>
                  <a:chOff x="5933160" y="380160"/>
                  <a:chExt cx="956520" cy="5274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82800">
                    <a:off x="5917680" y="524880"/>
                    <a:ext cx="6728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82800">
                    <a:off x="6516360" y="695520"/>
                    <a:ext cx="36108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929560" y="369720"/>
                  <a:ext cx="972720" cy="417960"/>
                  <a:chOff x="5929560" y="369720"/>
                  <a:chExt cx="97272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1080000">
                    <a:off x="5928480" y="467640"/>
                    <a:ext cx="6501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080000">
                    <a:off x="6537600" y="584280"/>
                    <a:ext cx="34920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5937840" y="363240"/>
                  <a:ext cx="919800" cy="252720"/>
                  <a:chOff x="5937840" y="363240"/>
                  <a:chExt cx="919800" cy="252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63200">
                    <a:off x="5941080" y="402840"/>
                    <a:ext cx="5990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63200">
                    <a:off x="6527520" y="452160"/>
                    <a:ext cx="321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5950800" y="358200"/>
                  <a:ext cx="835560" cy="106560"/>
                  <a:chOff x="5950800" y="358200"/>
                  <a:chExt cx="835560" cy="106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1515400">
                    <a:off x="5951160" y="367560"/>
                    <a:ext cx="544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1515400">
                    <a:off x="6492600" y="361440"/>
                    <a:ext cx="2923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5932800" y="230760"/>
                  <a:ext cx="737280" cy="206640"/>
                  <a:chOff x="5932800" y="230760"/>
                  <a:chExt cx="737280" cy="2066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0797200">
                    <a:off x="5933160" y="320400"/>
                    <a:ext cx="478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0797200">
                    <a:off x="6405120" y="258840"/>
                    <a:ext cx="25668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4974120" y="503280"/>
                  <a:ext cx="714240" cy="675000"/>
                  <a:chOff x="4974120" y="503280"/>
                  <a:chExt cx="714240" cy="675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8888600">
                    <a:off x="5217120" y="66312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8888600">
                    <a:off x="5001840" y="920520"/>
                    <a:ext cx="26928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4780800" y="438120"/>
                  <a:ext cx="931680" cy="675000"/>
                  <a:chOff x="4780800" y="438120"/>
                  <a:chExt cx="931680" cy="6750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19496400">
                    <a:off x="5043240" y="631080"/>
                    <a:ext cx="7038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19496400">
                    <a:off x="4791600" y="860040"/>
                    <a:ext cx="3780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762080" y="432000"/>
                  <a:ext cx="956160" cy="527400"/>
                  <a:chOff x="4762080" y="432000"/>
                  <a:chExt cx="956160" cy="527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017200">
                    <a:off x="5060520" y="576720"/>
                    <a:ext cx="6724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840" bIns="42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017200">
                    <a:off x="4773960" y="747720"/>
                    <a:ext cx="36144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4750560" y="421920"/>
                  <a:ext cx="972360" cy="417960"/>
                  <a:chOff x="4750560" y="421920"/>
                  <a:chExt cx="972360" cy="4179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0520000">
                    <a:off x="5073120" y="519840"/>
                    <a:ext cx="6501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0520000">
                    <a:off x="4765320" y="636480"/>
                    <a:ext cx="3495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4794840" y="415080"/>
                  <a:ext cx="919080" cy="252000"/>
                  <a:chOff x="4794840" y="415080"/>
                  <a:chExt cx="919080" cy="2520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1136800">
                    <a:off x="5110920" y="454680"/>
                    <a:ext cx="5990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4640" bIns="44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1136800">
                    <a:off x="4802400" y="503640"/>
                    <a:ext cx="3218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4865760" y="409320"/>
                  <a:ext cx="835560" cy="106560"/>
                  <a:chOff x="4865760" y="409320"/>
                  <a:chExt cx="835560" cy="1065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4600">
                    <a:off x="5155920" y="418680"/>
                    <a:ext cx="544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4600">
                    <a:off x="4866480" y="412560"/>
                    <a:ext cx="2923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4981680" y="281880"/>
                  <a:ext cx="737640" cy="206640"/>
                  <a:chOff x="4981680" y="281880"/>
                  <a:chExt cx="737640" cy="2066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802800">
                    <a:off x="5240520" y="371880"/>
                    <a:ext cx="478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802800">
                    <a:off x="4988880" y="309960"/>
                    <a:ext cx="2566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024160" y="209880"/>
                  <a:ext cx="721440" cy="289440"/>
                  <a:chOff x="5024160" y="209880"/>
                  <a:chExt cx="721440" cy="2894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278000">
                    <a:off x="5272560" y="352080"/>
                    <a:ext cx="4777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278000">
                    <a:off x="5032800" y="253080"/>
                    <a:ext cx="2563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5113440" y="108360"/>
                  <a:ext cx="666720" cy="406440"/>
                  <a:chOff x="5113440" y="108360"/>
                  <a:chExt cx="666720" cy="406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028600">
                    <a:off x="5324040" y="324360"/>
                    <a:ext cx="478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028600">
                    <a:off x="5118840" y="171360"/>
                    <a:ext cx="2570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202720" y="10080"/>
                  <a:ext cx="605880" cy="497520"/>
                  <a:chOff x="5202720" y="10080"/>
                  <a:chExt cx="605880" cy="49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2664600">
                    <a:off x="5370840" y="284040"/>
                    <a:ext cx="485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2664600">
                    <a:off x="5199480" y="87120"/>
                    <a:ext cx="26100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391360" y="360"/>
                  <a:ext cx="415440" cy="459720"/>
                  <a:chOff x="5391360" y="360"/>
                  <a:chExt cx="415440" cy="4597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3474000">
                    <a:off x="5525640" y="260280"/>
                    <a:ext cx="320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3474000">
                    <a:off x="5406480" y="42480"/>
                    <a:ext cx="17208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5519160" y="-18000"/>
                  <a:ext cx="324360" cy="468360"/>
                  <a:chOff x="5519160" y="-18000"/>
                  <a:chExt cx="324360" cy="4683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4126800">
                    <a:off x="5594400" y="249480"/>
                    <a:ext cx="3085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7800" bIns="37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4126800">
                    <a:off x="5526720" y="17280"/>
                    <a:ext cx="1656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5895000" y="142200"/>
                  <a:ext cx="718200" cy="297000"/>
                  <a:chOff x="5895000" y="142200"/>
                  <a:chExt cx="718200" cy="2970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0274000">
                    <a:off x="5888880" y="288720"/>
                    <a:ext cx="4777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0274000">
                    <a:off x="6347520" y="186480"/>
                    <a:ext cx="2563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854680" y="60480"/>
                  <a:ext cx="677880" cy="391680"/>
                  <a:chOff x="5854680" y="60480"/>
                  <a:chExt cx="677880" cy="3916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19678800">
                    <a:off x="5834880" y="267120"/>
                    <a:ext cx="478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9678800">
                    <a:off x="6269040" y="120960"/>
                    <a:ext cx="256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 flipH="1" rot="4578600">
                  <a:off x="5658840" y="268920"/>
                  <a:ext cx="299160" cy="55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rot="4578600">
                  <a:off x="5644080" y="45720"/>
                  <a:ext cx="160200" cy="88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5816880" y="-12600"/>
                  <a:ext cx="342000" cy="458640"/>
                  <a:chOff x="5816880" y="-12600"/>
                  <a:chExt cx="342000" cy="4586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7742000">
                    <a:off x="5761080" y="255240"/>
                    <a:ext cx="309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5560" bIns="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7742000">
                    <a:off x="5989320" y="30240"/>
                    <a:ext cx="1659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830920" y="7560"/>
                  <a:ext cx="534600" cy="446760"/>
                  <a:chOff x="5830920" y="7560"/>
                  <a:chExt cx="534600" cy="446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8822600">
                    <a:off x="5816520" y="244440"/>
                    <a:ext cx="3362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8822600">
                    <a:off x="6153840" y="47160"/>
                    <a:ext cx="1803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5833800" y="-1800"/>
                  <a:ext cx="124200" cy="424800"/>
                  <a:chOff x="5833800" y="-1800"/>
                  <a:chExt cx="124200" cy="4248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6696200">
                    <a:off x="5731200" y="266760"/>
                    <a:ext cx="2772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696200">
                    <a:off x="5846760" y="49320"/>
                    <a:ext cx="1486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5099400" y="519120"/>
                  <a:ext cx="614880" cy="731160"/>
                  <a:chOff x="5099400" y="519120"/>
                  <a:chExt cx="614880" cy="731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8336000">
                    <a:off x="5267880" y="697680"/>
                    <a:ext cx="501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8336000">
                    <a:off x="5120280" y="990360"/>
                    <a:ext cx="2689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317920" y="550080"/>
                  <a:ext cx="420120" cy="723240"/>
                  <a:chOff x="5317920" y="550080"/>
                  <a:chExt cx="420120" cy="723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7543400">
                    <a:off x="5361840" y="727560"/>
                    <a:ext cx="4644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7543400">
                    <a:off x="5328360" y="1026720"/>
                    <a:ext cx="249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5537160" y="565200"/>
                  <a:ext cx="249840" cy="697680"/>
                  <a:chOff x="5537160" y="565200"/>
                  <a:chExt cx="249840" cy="6976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6870800">
                    <a:off x="5467680" y="739800"/>
                    <a:ext cx="44532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6870800">
                    <a:off x="5524200" y="1043640"/>
                    <a:ext cx="2390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946480" y="506520"/>
                  <a:ext cx="639360" cy="721440"/>
                  <a:chOff x="5946480" y="506520"/>
                  <a:chExt cx="639360" cy="7214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144000">
                    <a:off x="5896440" y="681480"/>
                    <a:ext cx="5018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144000">
                    <a:off x="6293520" y="968040"/>
                    <a:ext cx="269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922720" y="535680"/>
                  <a:ext cx="497160" cy="733680"/>
                  <a:chOff x="5922720" y="535680"/>
                  <a:chExt cx="497160" cy="7336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3745200">
                    <a:off x="5844960" y="717120"/>
                    <a:ext cx="48024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3745200">
                    <a:off x="6150600" y="1021680"/>
                    <a:ext cx="25776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5888160" y="566640"/>
                  <a:ext cx="348120" cy="714600"/>
                  <a:chOff x="5888160" y="566640"/>
                  <a:chExt cx="348120" cy="7146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286400">
                    <a:off x="5774400" y="754920"/>
                    <a:ext cx="4658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286400">
                    <a:off x="6000480" y="1064160"/>
                    <a:ext cx="2498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856120" y="599040"/>
                  <a:ext cx="203760" cy="660600"/>
                  <a:chOff x="5856120" y="599040"/>
                  <a:chExt cx="203760" cy="6606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4898400">
                    <a:off x="5720040" y="770040"/>
                    <a:ext cx="4284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4898400">
                    <a:off x="5853960" y="1059840"/>
                    <a:ext cx="2300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5673960" y="610920"/>
                  <a:ext cx="197640" cy="644400"/>
                  <a:chOff x="5673960" y="610920"/>
                  <a:chExt cx="197640" cy="6444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5755200">
                    <a:off x="5604480" y="786240"/>
                    <a:ext cx="4186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5755200">
                    <a:off x="5630040" y="1080000"/>
                    <a:ext cx="2246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"/>
              <p:cNvSpPr/>
              <p:nvPr/>
            </p:nvSpPr>
            <p:spPr>
              <a:xfrm flipH="1">
                <a:off x="5515200" y="693720"/>
                <a:ext cx="1886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173560" y="517320"/>
                <a:ext cx="1647000" cy="134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813640" y="131760"/>
                <a:ext cx="1170720" cy="119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257080" y="430560"/>
                <a:ext cx="71784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915440" y="466200"/>
                <a:ext cx="1108440" cy="13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846680" y="340200"/>
                <a:ext cx="11548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32360" y="437400"/>
                <a:ext cx="182160" cy="134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12560" y="434520"/>
                <a:ext cx="48276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07880" y="343800"/>
                <a:ext cx="6850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46560" y="767160"/>
                <a:ext cx="1879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9660800">
                <a:off x="5753520" y="626040"/>
                <a:ext cx="170640" cy="244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794120" y="236880"/>
                <a:ext cx="1154880" cy="13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893480" y="91080"/>
                <a:ext cx="971280" cy="134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8200" y="372600"/>
                <a:ext cx="409320" cy="134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54680" y="729000"/>
                <a:ext cx="420120" cy="44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153400" y="259560"/>
                <a:ext cx="270000" cy="44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464080" y="127440"/>
                <a:ext cx="162000" cy="443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72800" y="663840"/>
                <a:ext cx="390600" cy="46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70120" y="427680"/>
                <a:ext cx="588240" cy="311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91720" y="97920"/>
                <a:ext cx="257040" cy="41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253000">
                <a:off x="6037560" y="444600"/>
                <a:ext cx="171720" cy="244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1347000">
                <a:off x="5426280" y="437760"/>
                <a:ext cx="171000" cy="243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9120" y="171360"/>
            <a:ext cx="5873760" cy="828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19120" y="1123920"/>
            <a:ext cx="5873760" cy="2333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82000"/>
          </a:bodyPr>
          <a:p>
            <a:pPr marL="190080" indent="-190080">
              <a:spcBef>
                <a:spcPts val="550"/>
              </a:spcBef>
              <a:buClr>
                <a:srgbClr val="ff3399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411120" indent="-158760">
              <a:spcBef>
                <a:spcPts val="550"/>
              </a:spcBef>
              <a:buClr>
                <a:srgbClr val="fe1f08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2" marL="632520" indent="-126000">
              <a:spcBef>
                <a:spcPts val="550"/>
              </a:spcBef>
              <a:buClr>
                <a:srgbClr val="ffcc00"/>
              </a:buClr>
              <a:buFont typeface="Arial Black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3" marL="8852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−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4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5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6" marL="1139040" indent="-126000"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51912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495288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08DD4BF2-4054-47ED-B0EC-76586BF561D6}" type="slidenum"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40080" y="124200"/>
            <a:ext cx="5367600" cy="4508280"/>
            <a:chOff x="1540080" y="124200"/>
            <a:chExt cx="5367600" cy="4508280"/>
          </a:xfrm>
        </p:grpSpPr>
        <p:grpSp>
          <p:nvGrpSpPr>
            <p:cNvPr id="382" name=""/>
            <p:cNvGrpSpPr/>
            <p:nvPr/>
          </p:nvGrpSpPr>
          <p:grpSpPr>
            <a:xfrm>
              <a:off x="2633040" y="540360"/>
              <a:ext cx="714960" cy="402120"/>
              <a:chOff x="2633040" y="540360"/>
              <a:chExt cx="714960" cy="402120"/>
            </a:xfrm>
          </p:grpSpPr>
          <p:sp>
            <p:nvSpPr>
              <p:cNvPr id="383" name=""/>
              <p:cNvSpPr/>
              <p:nvPr/>
            </p:nvSpPr>
            <p:spPr>
              <a:xfrm>
                <a:off x="2633040" y="540360"/>
                <a:ext cx="714960" cy="402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89720" y="716040"/>
                <a:ext cx="172080" cy="75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540080" y="124200"/>
              <a:ext cx="5367600" cy="4384800"/>
              <a:chOff x="1540080" y="124200"/>
              <a:chExt cx="5367600" cy="43848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1540080" y="124200"/>
                <a:ext cx="5169960" cy="3120840"/>
                <a:chOff x="1540080" y="124200"/>
                <a:chExt cx="5169960" cy="31208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2824200" y="717480"/>
                  <a:ext cx="2720160" cy="1504080"/>
                  <a:chOff x="2824200" y="717480"/>
                  <a:chExt cx="2720160" cy="15040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2824200" y="717480"/>
                    <a:ext cx="2720160" cy="150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863160" y="1267560"/>
                    <a:ext cx="539280" cy="28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1540080" y="124200"/>
                  <a:ext cx="5169960" cy="3120840"/>
                  <a:chOff x="1540080" y="124200"/>
                  <a:chExt cx="5169960" cy="3120840"/>
                </a:xfrm>
              </p:grpSpPr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496760" y="1290960"/>
                    <a:ext cx="1716840" cy="1621440"/>
                    <a:chOff x="4496760" y="1290960"/>
                    <a:chExt cx="1716840" cy="162144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711400">
                      <a:off x="4421880" y="167544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711400">
                      <a:off x="5500080" y="2293560"/>
                      <a:ext cx="64692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4397760" y="1096560"/>
                    <a:ext cx="2239200" cy="1621080"/>
                    <a:chOff x="4397760" y="1096560"/>
                    <a:chExt cx="2239200" cy="1621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2103600">
                      <a:off x="4313880" y="1559880"/>
                      <a:ext cx="1690560" cy="24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103600">
                      <a:off x="5702040" y="2110680"/>
                      <a:ext cx="907560" cy="38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382280" y="1081440"/>
                    <a:ext cx="2299680" cy="1267200"/>
                    <a:chOff x="4382280" y="1081440"/>
                    <a:chExt cx="2299680" cy="126720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582800">
                      <a:off x="4344840" y="1429560"/>
                      <a:ext cx="161748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582800">
                      <a:off x="5784840" y="1840320"/>
                      <a:ext cx="8683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4372200" y="1056600"/>
                    <a:ext cx="2337840" cy="1004760"/>
                    <a:chOff x="4372200" y="1056600"/>
                    <a:chExt cx="2337840" cy="10047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1080000">
                      <a:off x="4370040" y="1292040"/>
                      <a:ext cx="156276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1080000">
                      <a:off x="5834160" y="1572840"/>
                      <a:ext cx="83952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393800" y="1041480"/>
                    <a:ext cx="2210400" cy="605520"/>
                    <a:chOff x="4393800" y="1041480"/>
                    <a:chExt cx="2210400" cy="6055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63200">
                      <a:off x="4401720" y="1136880"/>
                      <a:ext cx="14396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63200">
                      <a:off x="5810760" y="1254600"/>
                      <a:ext cx="773640" cy="34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423680" y="1027080"/>
                    <a:ext cx="2007720" cy="257040"/>
                    <a:chOff x="4423680" y="1027080"/>
                    <a:chExt cx="2007720" cy="2570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1515400">
                      <a:off x="4425120" y="1049400"/>
                      <a:ext cx="130824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1515400">
                      <a:off x="5725800" y="1035360"/>
                      <a:ext cx="70236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4381560" y="721080"/>
                    <a:ext cx="1771560" cy="497520"/>
                    <a:chOff x="4381560" y="721080"/>
                    <a:chExt cx="1771560" cy="4975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0797200">
                      <a:off x="4383000" y="93744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0797200">
                      <a:off x="5517000" y="789120"/>
                      <a:ext cx="61704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77200" y="1377000"/>
                    <a:ext cx="1714680" cy="1620360"/>
                    <a:chOff x="2077200" y="1377000"/>
                    <a:chExt cx="1714680" cy="16203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8888600">
                      <a:off x="2660760" y="176148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8888600">
                      <a:off x="2143440" y="2378520"/>
                      <a:ext cx="64656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1613520" y="1220400"/>
                    <a:ext cx="2238120" cy="1620720"/>
                    <a:chOff x="1613520" y="1220400"/>
                    <a:chExt cx="2238120" cy="16207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19496400">
                      <a:off x="2244240" y="1683720"/>
                      <a:ext cx="1690560" cy="24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19496400">
                      <a:off x="1639800" y="2233800"/>
                      <a:ext cx="907560" cy="38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1567800" y="1204920"/>
                    <a:ext cx="2299680" cy="1267560"/>
                    <a:chOff x="1567800" y="1204920"/>
                    <a:chExt cx="2299680" cy="12675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017200">
                      <a:off x="2286720" y="1553040"/>
                      <a:ext cx="161784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017200">
                      <a:off x="1595880" y="1964160"/>
                      <a:ext cx="868320" cy="33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1540080" y="1180440"/>
                    <a:ext cx="2337840" cy="1004400"/>
                    <a:chOff x="1540080" y="1180440"/>
                    <a:chExt cx="2337840" cy="10044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0520000">
                      <a:off x="2316960" y="1415880"/>
                      <a:ext cx="156276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0520000">
                      <a:off x="1575720" y="1696320"/>
                      <a:ext cx="83952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1645920" y="1164960"/>
                    <a:ext cx="2210400" cy="605520"/>
                    <a:chOff x="1645920" y="1164960"/>
                    <a:chExt cx="2210400" cy="6055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1136800">
                      <a:off x="2408400" y="1260360"/>
                      <a:ext cx="143964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1136800">
                      <a:off x="1665000" y="1378080"/>
                      <a:ext cx="773640" cy="34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1818360" y="1150920"/>
                    <a:ext cx="2007360" cy="257040"/>
                    <a:chOff x="1818360" y="1150920"/>
                    <a:chExt cx="2007360" cy="2570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4600">
                      <a:off x="2515320" y="1173600"/>
                      <a:ext cx="130824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4600">
                      <a:off x="1820880" y="1159200"/>
                      <a:ext cx="70236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096280" y="845280"/>
                    <a:ext cx="1771920" cy="496800"/>
                    <a:chOff x="2096280" y="845280"/>
                    <a:chExt cx="1771920" cy="4968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802800">
                      <a:off x="2716920" y="1061280"/>
                      <a:ext cx="1148760" cy="14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802800">
                      <a:off x="2114640" y="91332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197440" y="672840"/>
                    <a:ext cx="1733400" cy="694800"/>
                    <a:chOff x="2197440" y="672840"/>
                    <a:chExt cx="1733400" cy="69480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278000">
                      <a:off x="2793960" y="101376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278000">
                      <a:off x="2219040" y="776880"/>
                      <a:ext cx="617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411640" y="428040"/>
                    <a:ext cx="1604160" cy="977760"/>
                    <a:chOff x="2411640" y="428040"/>
                    <a:chExt cx="1604160" cy="97776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028600">
                      <a:off x="2922120" y="94824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028600">
                      <a:off x="2424960" y="57924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626560" y="192240"/>
                    <a:ext cx="1456920" cy="1194840"/>
                    <a:chOff x="2626560" y="192240"/>
                    <a:chExt cx="1456920" cy="11948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2664600">
                      <a:off x="3031200" y="850320"/>
                      <a:ext cx="116568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2664600">
                      <a:off x="2619360" y="377280"/>
                      <a:ext cx="62604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081240" y="169200"/>
                    <a:ext cx="999360" cy="1103400"/>
                    <a:chOff x="3081240" y="169200"/>
                    <a:chExt cx="999360" cy="110340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3474000">
                      <a:off x="3405960" y="793080"/>
                      <a:ext cx="76932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3474000">
                      <a:off x="3117600" y="270360"/>
                      <a:ext cx="413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386520" y="124200"/>
                    <a:ext cx="779760" cy="1127880"/>
                    <a:chOff x="3386520" y="124200"/>
                    <a:chExt cx="779760" cy="11278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4126800">
                      <a:off x="3567240" y="769320"/>
                      <a:ext cx="741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4126800">
                      <a:off x="3405240" y="209520"/>
                      <a:ext cx="39852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289400" y="511200"/>
                    <a:ext cx="1726560" cy="712800"/>
                    <a:chOff x="4289400" y="511200"/>
                    <a:chExt cx="1726560" cy="7128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0274000">
                      <a:off x="4275360" y="86328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0274000">
                      <a:off x="5377320" y="61812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193280" y="314280"/>
                    <a:ext cx="1627200" cy="939600"/>
                    <a:chOff x="4193280" y="314280"/>
                    <a:chExt cx="1627200" cy="9396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9678800">
                      <a:off x="4145400" y="810360"/>
                      <a:ext cx="11487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9678800">
                      <a:off x="5187960" y="459360"/>
                      <a:ext cx="616680" cy="23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flipH="1" rot="4578600">
                    <a:off x="3722760" y="814320"/>
                    <a:ext cx="7182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4578600">
                    <a:off x="3688560" y="278280"/>
                    <a:ext cx="38628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102200" y="138600"/>
                    <a:ext cx="821520" cy="1101240"/>
                    <a:chOff x="4102200" y="138600"/>
                    <a:chExt cx="821520" cy="110124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7742000">
                      <a:off x="3969000" y="782280"/>
                      <a:ext cx="74268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7742000">
                      <a:off x="4516920" y="241920"/>
                      <a:ext cx="398160" cy="26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4135320" y="186480"/>
                    <a:ext cx="1286640" cy="1073880"/>
                    <a:chOff x="4135320" y="186480"/>
                    <a:chExt cx="1286640" cy="107388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8822600">
                      <a:off x="4101480" y="755640"/>
                      <a:ext cx="80748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8822600">
                      <a:off x="4912920" y="281880"/>
                      <a:ext cx="4334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141800" y="163440"/>
                    <a:ext cx="298440" cy="1021320"/>
                    <a:chOff x="4141800" y="163440"/>
                    <a:chExt cx="298440" cy="102132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6696200">
                      <a:off x="3895920" y="808920"/>
                      <a:ext cx="66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34200" bIns="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6696200">
                      <a:off x="4173480" y="286560"/>
                      <a:ext cx="35784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378520" y="1413360"/>
                    <a:ext cx="1478880" cy="1757160"/>
                    <a:chOff x="2378520" y="1413360"/>
                    <a:chExt cx="1478880" cy="17571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8336000">
                      <a:off x="2785320" y="1842480"/>
                      <a:ext cx="120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8336000">
                      <a:off x="2428920" y="2546280"/>
                      <a:ext cx="64620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2904120" y="1488960"/>
                    <a:ext cx="1011600" cy="1737000"/>
                    <a:chOff x="2904120" y="1488960"/>
                    <a:chExt cx="1011600" cy="173700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7543400">
                      <a:off x="3011040" y="1914480"/>
                      <a:ext cx="111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7543400">
                      <a:off x="2929320" y="2633760"/>
                      <a:ext cx="59832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431160" y="1526760"/>
                    <a:ext cx="600840" cy="1675080"/>
                    <a:chOff x="3431160" y="1526760"/>
                    <a:chExt cx="600840" cy="16750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6870800">
                      <a:off x="3264840" y="1946160"/>
                      <a:ext cx="1069920" cy="26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6870800">
                      <a:off x="3400920" y="2674800"/>
                      <a:ext cx="573840" cy="41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414680" y="1385640"/>
                    <a:ext cx="1535400" cy="1731600"/>
                    <a:chOff x="4414680" y="1385640"/>
                    <a:chExt cx="1535400" cy="173160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144000">
                      <a:off x="4294440" y="1806480"/>
                      <a:ext cx="120564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144000">
                      <a:off x="5248440" y="2493360"/>
                      <a:ext cx="646560" cy="4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358520" y="1454400"/>
                    <a:ext cx="1191600" cy="1761120"/>
                    <a:chOff x="4358520" y="1454400"/>
                    <a:chExt cx="1191600" cy="17611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3745200">
                      <a:off x="4172040" y="1890720"/>
                      <a:ext cx="1153800" cy="27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3745200">
                      <a:off x="4903560" y="2621880"/>
                      <a:ext cx="618840" cy="43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4274640" y="1527840"/>
                    <a:ext cx="834840" cy="1717200"/>
                    <a:chOff x="4274640" y="1527840"/>
                    <a:chExt cx="834840" cy="17172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286400">
                      <a:off x="4001400" y="1980000"/>
                      <a:ext cx="111924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286400">
                      <a:off x="4542840" y="2723400"/>
                      <a:ext cx="600480" cy="35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199040" y="1606320"/>
                    <a:ext cx="488520" cy="1585800"/>
                    <a:chOff x="4199040" y="1606320"/>
                    <a:chExt cx="488520" cy="158580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4898400">
                      <a:off x="3872520" y="2017080"/>
                      <a:ext cx="10285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4898400">
                      <a:off x="4193280" y="2712600"/>
                      <a:ext cx="552240" cy="35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3759480" y="1635120"/>
                    <a:ext cx="475560" cy="1546200"/>
                    <a:chOff x="3759480" y="1635120"/>
                    <a:chExt cx="475560" cy="15462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5755200">
                      <a:off x="3593520" y="2055960"/>
                      <a:ext cx="1004760" cy="1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5755200">
                      <a:off x="3654000" y="2761560"/>
                      <a:ext cx="53892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9" name=""/>
              <p:cNvGrpSpPr/>
              <p:nvPr/>
            </p:nvGrpSpPr>
            <p:grpSpPr>
              <a:xfrm>
                <a:off x="1644840" y="386640"/>
                <a:ext cx="5262840" cy="4122360"/>
                <a:chOff x="1644840" y="386640"/>
                <a:chExt cx="5262840" cy="412236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1644840" y="386640"/>
                  <a:ext cx="5262840" cy="4122360"/>
                  <a:chOff x="1644840" y="386640"/>
                  <a:chExt cx="5262840" cy="41223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V="1">
                    <a:off x="4094640" y="486000"/>
                    <a:ext cx="2813040" cy="286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1937160" y="1287360"/>
                    <a:ext cx="266292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079160" y="993600"/>
                    <a:ext cx="164844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1644480" y="736200"/>
                    <a:ext cx="277596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1882440" y="386640"/>
                    <a:ext cx="233568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959640" y="1063440"/>
                    <a:ext cx="986760" cy="3221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3252960" y="473760"/>
                    <a:ext cx="389160" cy="10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rot="20253000">
                  <a:off x="4632480" y="1236600"/>
                  <a:ext cx="411840" cy="5850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1771560" y="403920"/>
              <a:ext cx="4844520" cy="4228560"/>
              <a:chOff x="1771560" y="403920"/>
              <a:chExt cx="4844520" cy="422856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3377520" y="1834200"/>
                <a:ext cx="4518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2557800" y="1410480"/>
                <a:ext cx="395460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755800" y="1203120"/>
                <a:ext cx="172944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771200" y="984960"/>
                <a:ext cx="2775960" cy="322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37480" y="1219320"/>
                <a:ext cx="43992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91040" y="1211400"/>
                <a:ext cx="1159920" cy="322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652280" y="2010960"/>
                <a:ext cx="4518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19660800">
                <a:off x="3948480" y="1671480"/>
                <a:ext cx="411840" cy="58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031120" y="1919520"/>
                <a:ext cx="1011240" cy="1065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507400" y="792720"/>
                <a:ext cx="648360" cy="1065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7560" y="1762560"/>
                <a:ext cx="938520" cy="1119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90120" y="1196280"/>
                <a:ext cx="1414440" cy="745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42320" y="403920"/>
                <a:ext cx="617400" cy="100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rot="1347000">
                <a:off x="3162240" y="1221120"/>
                <a:ext cx="411840" cy="58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9120" y="1036800"/>
            <a:ext cx="5873760" cy="9223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6"/>
          </p:nvPr>
        </p:nvSpPr>
        <p:spPr>
          <a:xfrm>
            <a:off x="51912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17"/>
          </p:nvPr>
        </p:nvSpPr>
        <p:spPr>
          <a:xfrm>
            <a:off x="2362320" y="3543120"/>
            <a:ext cx="218736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18"/>
          </p:nvPr>
        </p:nvSpPr>
        <p:spPr>
          <a:xfrm>
            <a:off x="4952880" y="3543120"/>
            <a:ext cx="1440000" cy="2602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FE430642-D645-4DE5-B1E8-5B62D5BB4339}" type="slidenum">
              <a:rPr b="0" lang="en-US" sz="9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lvl="2" marL="617400" algn="ctr">
              <a:spcBef>
                <a:spcPts val="400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3" marL="925560" algn="ctr">
              <a:spcBef>
                <a:spcPts val="34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4" marL="1235160" algn="ctr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5" marL="1235160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6" marL="1235160">
              <a:spcBef>
                <a:spcPts val="34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0" y="0"/>
            <a:ext cx="6924240" cy="3897360"/>
            <a:chOff x="0" y="0"/>
            <a:chExt cx="6924240" cy="3897360"/>
          </a:xfrm>
        </p:grpSpPr>
        <p:sp>
          <p:nvSpPr>
            <p:cNvPr id="556" name=""/>
            <p:cNvSpPr/>
            <p:nvPr/>
          </p:nvSpPr>
          <p:spPr>
            <a:xfrm>
              <a:off x="0" y="3769560"/>
              <a:ext cx="6107400" cy="1278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6107400" cy="113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2360" y="0"/>
              <a:ext cx="909360" cy="38901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933160" y="360"/>
              <a:ext cx="978480" cy="3578760"/>
              <a:chOff x="5933160" y="360"/>
              <a:chExt cx="978480" cy="35787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336000" y="360"/>
                <a:ext cx="575640" cy="1287720"/>
                <a:chOff x="6336000" y="360"/>
                <a:chExt cx="575640" cy="128772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6579720" y="360"/>
                  <a:ext cx="210960" cy="156600"/>
                  <a:chOff x="6579720" y="360"/>
                  <a:chExt cx="210960" cy="15660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6579720" y="360"/>
                    <a:ext cx="210960" cy="156600"/>
                    <a:chOff x="6579720" y="360"/>
                    <a:chExt cx="210960" cy="1566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6200000">
                      <a:off x="6627960" y="-47880"/>
                      <a:ext cx="114120" cy="21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6200000">
                      <a:off x="6629760" y="31680"/>
                      <a:ext cx="7992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6672960" y="70200"/>
                    <a:ext cx="15480" cy="201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6622920" y="36360"/>
                    <a:ext cx="24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200000">
                    <a:off x="6680160" y="30960"/>
                    <a:ext cx="363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rot="16200000">
                    <a:off x="6728040" y="57240"/>
                    <a:ext cx="13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0" bIns="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16200000">
                    <a:off x="6676200" y="105120"/>
                    <a:ext cx="36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rot="16200000">
                    <a:off x="6634440" y="896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040" bIns="-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36000" y="129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88800" y="129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08440" y="3024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1200" y="5184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8800" y="475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6400" y="691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8800" y="907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88800" y="1123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9" name=""/>
              <p:cNvGrpSpPr/>
              <p:nvPr/>
            </p:nvGrpSpPr>
            <p:grpSpPr>
              <a:xfrm>
                <a:off x="5933160" y="907560"/>
                <a:ext cx="626040" cy="2671560"/>
                <a:chOff x="5933160" y="907560"/>
                <a:chExt cx="626040" cy="2671560"/>
              </a:xfrm>
            </p:grpSpPr>
            <p:pic>
              <p:nvPicPr>
                <p:cNvPr id="5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63200" y="9075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20800" y="10803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63200" y="14259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36000" y="15559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48000" y="16423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105960" y="18151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336000" y="18583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278760" y="21178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990400" y="1988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990400" y="2204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63200" y="23338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278760" y="12531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33160" y="24634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990400" y="2766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278760" y="2982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990400" y="30686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105960" y="3198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990400" y="34146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220800" y="3328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9" name=""/>
            <p:cNvSpPr/>
            <p:nvPr/>
          </p:nvSpPr>
          <p:spPr>
            <a:xfrm>
              <a:off x="6012360" y="2784240"/>
              <a:ext cx="900000" cy="1100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01560" y="2755440"/>
              <a:ext cx="921600" cy="11343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93280" y="1598400"/>
              <a:ext cx="930960" cy="2289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55560" y="2007000"/>
              <a:ext cx="740520" cy="12391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32320" y="241920"/>
              <a:ext cx="691200" cy="28634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6640" y="148320"/>
              <a:ext cx="687600" cy="17420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05160" y="0"/>
              <a:ext cx="4356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05160" y="720"/>
              <a:ext cx="2268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6480" y="720"/>
              <a:ext cx="66960" cy="3890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15960" y="3533760"/>
              <a:ext cx="880920" cy="3510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5400000">
              <a:off x="3915360" y="1859760"/>
              <a:ext cx="3890160" cy="170280"/>
            </a:xfrm>
            <a:custGeom>
              <a:avLst/>
              <a:gdLst>
                <a:gd name="textAreaLeft" fmla="*/ 375840 w 3890160"/>
                <a:gd name="textAreaRight" fmla="*/ 3514320 w 3890160"/>
                <a:gd name="textAreaTop" fmla="*/ 16200 h 170280"/>
                <a:gd name="textAreaBottom" fmla="*/ 15408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t" anchorCtr="1" vert="eaVert" rot="10800000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64880" y="128160"/>
            <a:ext cx="5653080" cy="647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7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198360" y="906480"/>
            <a:ext cx="5585040" cy="25509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90000"/>
          </a:bodyPr>
          <a:p>
            <a:pPr marL="208440" indent="-208440">
              <a:spcBef>
                <a:spcPts val="550"/>
              </a:spcBef>
              <a:buSzPct val="102909"/>
              <a:buBlip>
                <a:blip r:embed="rId31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451080" indent="-174240">
              <a:spcBef>
                <a:spcPts val="550"/>
              </a:spcBef>
              <a:buSzPct val="100000"/>
              <a:buBlip>
                <a:blip r:embed="rId32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694080" indent="-138600">
              <a:spcBef>
                <a:spcPts val="550"/>
              </a:spcBef>
              <a:buSzPct val="100000"/>
              <a:buBlip>
                <a:blip r:embed="rId33"/>
              </a:buBlip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3" marL="971640" indent="-138600">
              <a:spcBef>
                <a:spcPts val="550"/>
              </a:spcBef>
              <a:buClr>
                <a:srgbClr val="2f1311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4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5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6" marL="1250280" indent="-138600">
              <a:spcBef>
                <a:spcPts val="550"/>
              </a:spcBef>
              <a:buClr>
                <a:srgbClr val="2f1311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19"/>
          </p:nvPr>
        </p:nvSpPr>
        <p:spPr>
          <a:xfrm>
            <a:off x="228600" y="3539880"/>
            <a:ext cx="13478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0"/>
          </p:nvPr>
        </p:nvSpPr>
        <p:spPr>
          <a:xfrm>
            <a:off x="1706400" y="3543120"/>
            <a:ext cx="26114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1"/>
          </p:nvPr>
        </p:nvSpPr>
        <p:spPr>
          <a:xfrm>
            <a:off x="4435560" y="3543120"/>
            <a:ext cx="132696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B5AC4168-9904-4ABE-B58D-07E3E9FA443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0" y="0"/>
            <a:ext cx="6924240" cy="3897360"/>
            <a:chOff x="0" y="0"/>
            <a:chExt cx="6924240" cy="3897360"/>
          </a:xfrm>
        </p:grpSpPr>
        <p:sp>
          <p:nvSpPr>
            <p:cNvPr id="652" name=""/>
            <p:cNvSpPr/>
            <p:nvPr/>
          </p:nvSpPr>
          <p:spPr>
            <a:xfrm>
              <a:off x="0" y="3769560"/>
              <a:ext cx="6107400" cy="1278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0"/>
              <a:ext cx="6107400" cy="113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12360" y="0"/>
              <a:ext cx="909360" cy="38901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933160" y="360"/>
              <a:ext cx="978480" cy="3578760"/>
              <a:chOff x="5933160" y="360"/>
              <a:chExt cx="978480" cy="357876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6336000" y="360"/>
                <a:ext cx="575640" cy="1287720"/>
                <a:chOff x="6336000" y="360"/>
                <a:chExt cx="575640" cy="128772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579720" y="360"/>
                  <a:ext cx="210960" cy="156600"/>
                  <a:chOff x="6579720" y="360"/>
                  <a:chExt cx="210960" cy="15660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579720" y="360"/>
                    <a:ext cx="210960" cy="156600"/>
                    <a:chOff x="6579720" y="360"/>
                    <a:chExt cx="210960" cy="156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6200000">
                      <a:off x="6627960" y="-47880"/>
                      <a:ext cx="114120" cy="21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6200000">
                      <a:off x="6629760" y="31680"/>
                      <a:ext cx="7992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6672960" y="70200"/>
                    <a:ext cx="15480" cy="201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6622920" y="36360"/>
                    <a:ext cx="24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6680160" y="30960"/>
                    <a:ext cx="3636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0" bIns="-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rot="16200000">
                    <a:off x="6728040" y="57240"/>
                    <a:ext cx="13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0" bIns="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6200000">
                    <a:off x="6676200" y="105120"/>
                    <a:ext cx="36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200000">
                    <a:off x="6634440" y="89640"/>
                    <a:ext cx="219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040" bIns="-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36000" y="129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88800" y="129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08440" y="3024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1200" y="5184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8800" y="475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6400" y="691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8800" y="907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88800" y="11235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5" name=""/>
              <p:cNvGrpSpPr/>
              <p:nvPr/>
            </p:nvGrpSpPr>
            <p:grpSpPr>
              <a:xfrm>
                <a:off x="5933160" y="907560"/>
                <a:ext cx="626040" cy="2671560"/>
                <a:chOff x="5933160" y="907560"/>
                <a:chExt cx="626040" cy="2671560"/>
              </a:xfrm>
            </p:grpSpPr>
            <p:pic>
              <p:nvPicPr>
                <p:cNvPr id="6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63200" y="9075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20800" y="10803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63200" y="142596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36000" y="15559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48000" y="16423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105960" y="181512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6336000" y="185832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278760" y="21178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990400" y="1988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990400" y="22042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63200" y="233388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278760" y="125316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933160" y="246348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990400" y="27662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278760" y="2982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990400" y="306864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105960" y="319824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990400" y="3414600"/>
                  <a:ext cx="2232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220800" y="3328200"/>
                  <a:ext cx="22284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5" name=""/>
            <p:cNvSpPr/>
            <p:nvPr/>
          </p:nvSpPr>
          <p:spPr>
            <a:xfrm>
              <a:off x="6012360" y="2784240"/>
              <a:ext cx="900000" cy="11005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01560" y="2755440"/>
              <a:ext cx="921600" cy="11343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93280" y="1598400"/>
              <a:ext cx="930960" cy="2289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560" y="2007000"/>
              <a:ext cx="740520" cy="12391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32320" y="241920"/>
              <a:ext cx="691200" cy="28634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36640" y="148320"/>
              <a:ext cx="687600" cy="174204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05160" y="0"/>
              <a:ext cx="4356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05160" y="720"/>
              <a:ext cx="226800" cy="19018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46480" y="720"/>
              <a:ext cx="66960" cy="38901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5960" y="3533760"/>
              <a:ext cx="880920" cy="3510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3915360" y="1859760"/>
              <a:ext cx="3890160" cy="170280"/>
            </a:xfrm>
            <a:custGeom>
              <a:avLst/>
              <a:gdLst>
                <a:gd name="textAreaLeft" fmla="*/ 375840 w 3890160"/>
                <a:gd name="textAreaRight" fmla="*/ 3514320 w 3890160"/>
                <a:gd name="textAreaTop" fmla="*/ 16200 h 170280"/>
                <a:gd name="textAreaBottom" fmla="*/ 15408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t" anchorCtr="1" vert="eaVert" rot="10800000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8760" y="776160"/>
            <a:ext cx="5264280" cy="1167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7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22"/>
          </p:nvPr>
        </p:nvSpPr>
        <p:spPr>
          <a:xfrm>
            <a:off x="228600" y="3539880"/>
            <a:ext cx="13478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23"/>
          </p:nvPr>
        </p:nvSpPr>
        <p:spPr>
          <a:xfrm>
            <a:off x="1706400" y="3543120"/>
            <a:ext cx="261144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4"/>
          </p:nvPr>
        </p:nvSpPr>
        <p:spPr>
          <a:xfrm>
            <a:off x="4435560" y="3543120"/>
            <a:ext cx="1326960" cy="26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564A58D2-8706-4AC7-8831-0FA4560A336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body"/>
          </p:nvPr>
        </p:nvSpPr>
        <p:spPr>
          <a:xfrm>
            <a:off x="345600" y="909720"/>
            <a:ext cx="6220440" cy="22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307800" indent="0" algn="ctr">
              <a:spcBef>
                <a:spcPts val="476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9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lvl="2" marL="617400" algn="ctr">
              <a:spcBef>
                <a:spcPts val="400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3" marL="925560" algn="ctr">
              <a:spcBef>
                <a:spcPts val="34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4" marL="1235160" algn="ctr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5" marL="1235160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6" marL="1235160">
              <a:spcBef>
                <a:spcPts val="34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241200" y="1036800"/>
            <a:ext cx="6670800" cy="2852640"/>
            <a:chOff x="241200" y="1036800"/>
            <a:chExt cx="6670800" cy="2852640"/>
          </a:xfrm>
        </p:grpSpPr>
        <p:sp>
          <p:nvSpPr>
            <p:cNvPr id="748" name=""/>
            <p:cNvSpPr/>
            <p:nvPr/>
          </p:nvSpPr>
          <p:spPr>
            <a:xfrm>
              <a:off x="633600" y="2619000"/>
              <a:ext cx="6278400" cy="12704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2000" y="1036800"/>
              <a:ext cx="6660000" cy="285264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3600" y="2639520"/>
              <a:ext cx="6278400" cy="124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600" y="1036800"/>
              <a:ext cx="5528160" cy="259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3600" y="1036800"/>
              <a:ext cx="34560" cy="16070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2160" y="2614320"/>
              <a:ext cx="34560" cy="127476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1200" y="2614320"/>
              <a:ext cx="3454560" cy="259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1200" y="2614320"/>
              <a:ext cx="36000" cy="12747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dt" idx="25"/>
          </p:nvPr>
        </p:nvSpPr>
        <p:spPr>
          <a:xfrm>
            <a:off x="633240" y="3541680"/>
            <a:ext cx="14385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ftr" idx="26"/>
          </p:nvPr>
        </p:nvSpPr>
        <p:spPr>
          <a:xfrm>
            <a:off x="2592000" y="3541680"/>
            <a:ext cx="21891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27"/>
          </p:nvPr>
        </p:nvSpPr>
        <p:spPr>
          <a:xfrm>
            <a:off x="5243400" y="3541680"/>
            <a:ext cx="1438560" cy="270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EEECC472-7BD3-4427-B29B-2F9674E3318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title"/>
          </p:nvPr>
        </p:nvSpPr>
        <p:spPr>
          <a:xfrm>
            <a:off x="345960" y="137880"/>
            <a:ext cx="6337440" cy="812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body"/>
          </p:nvPr>
        </p:nvSpPr>
        <p:spPr>
          <a:xfrm>
            <a:off x="632880" y="1080720"/>
            <a:ext cx="6053400" cy="23763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83000"/>
          </a:bodyPr>
          <a:p>
            <a:pPr marL="192240" indent="-1922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6160" indent="-160560">
              <a:spcBef>
                <a:spcPts val="5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896040" indent="-127800">
              <a:spcBef>
                <a:spcPts val="5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52720" indent="-12780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52720" indent="-127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52720" indent="-127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j3goePuKrjAhUS5bwKHY0DBP8QjRx6BAgBEAU&amp;url=https%3A%2F%2Fwww.irasutoya.com%2F2013%2F01%2Fblog-post_8604.html&amp;psig=AOvVaw3EgPgI1oLOkVCwERGTXbGV&amp;ust=1562851067356945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ji1s6suKrjAhWMXbwKHUknD98QjRx6BAgBEAU&amp;url=https%3A%2F%2Fwww.irasutoya.com%2F2015%2F03%2Fblog-post_707.html&amp;psig=AOvVaw3j4c8L9Gh1PB2pY7ZMfrfO&amp;ust=1562851138746613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iRj6nFtKrjAhWLW7wKHbO4BzcQjRx6BAgBEAU&amp;url=https%3A%2F%2Fwww.irasutoya.com%2F2012%2F02%2Fblog-post_9158.html&amp;psig=AOvVaw02BrLOear2A4qXw9cBixfl&amp;ust=1562850098436526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google.co.jp/url?sa=i&amp;rct=j&amp;q=&amp;esrc=s&amp;source=images&amp;cd=&amp;ved=2ahUKEwiBmZ2ytqrjAhVK2LwKHSpEAukQjRx6BAgBEAU&amp;url=https%3A%2F%2Fwww.irasutoya.com%2F2015%2F02%2Fblog-post_277.html&amp;psig=AOvVaw3oIVoYmhAu6uUG76tCjs9S&amp;ust=1562850617873460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2059200" y="19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Meiryo UI"/>
              </a:rPr>
              <a:t>今年度の事業計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287280" y="1959120"/>
          <a:ext cx="6120000" cy="1857240"/>
        </p:xfrm>
        <a:graphic>
          <a:graphicData uri="http://schemas.openxmlformats.org/drawingml/2006/table">
            <a:tbl>
              <a:tblPr/>
              <a:tblGrid>
                <a:gridCol w="2448000"/>
                <a:gridCol w="367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分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目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〇〇契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昨年度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10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契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△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収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昨年度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億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新事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〇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〇サービス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2Q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開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67" name="" descr="「イラストや　社長」の画像検索結果"/>
          <p:cNvPicPr/>
          <p:nvPr/>
        </p:nvPicPr>
        <p:blipFill>
          <a:blip r:embed="rId1"/>
          <a:stretch/>
        </p:blipFill>
        <p:spPr>
          <a:xfrm>
            <a:off x="4464000" y="504720"/>
            <a:ext cx="2718000" cy="14288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285840" y="6858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  <a:ea typeface="Meiryo UI"/>
              </a:rPr>
              <a:t>社長メッセー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  <a:ea typeface="Meiryo UI"/>
              </a:rPr>
              <a:t>飛躍の年になるように社員一丸になって目標達成をしましょ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1813680" y="144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Meiryo UI"/>
              </a:rPr>
              <a:t>健康診断のお知ら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87280" y="936720"/>
            <a:ext cx="63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2019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年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7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月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17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日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日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)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　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1F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大会議室に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287280" y="1657440"/>
          <a:ext cx="6120000" cy="1857240"/>
        </p:xfrm>
        <a:graphic>
          <a:graphicData uri="http://schemas.openxmlformats.org/drawingml/2006/table">
            <a:tbl>
              <a:tblPr/>
              <a:tblGrid>
                <a:gridCol w="2521080"/>
                <a:gridCol w="3598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0: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1: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●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1: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2: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▲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3: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4: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■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4: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15: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×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HGP創英角ﾎﾟｯﾌﾟ体"/>
                          <a:ea typeface="HGP創英角ﾎﾟｯﾌﾟ体"/>
                        </a:rPr>
                        <a:t>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72" name="" descr="「イラストや　健康診断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08360" y="1728720"/>
            <a:ext cx="2087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949400" y="49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  <a:ea typeface="Meiryo UI"/>
              </a:rPr>
              <a:t>防災訓練の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42920" y="865080"/>
            <a:ext cx="66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  <a:ea typeface="Meiryo UI"/>
              </a:rPr>
              <a:t>火災発生を想定した防災訓練を実施しま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  <a:ea typeface="Meiryo UI"/>
              </a:rPr>
              <a:t>社員の皆さんは全員参加してくださ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144360" y="1793880"/>
          <a:ext cx="6119640" cy="1950840"/>
        </p:xfrm>
        <a:graphic>
          <a:graphicData uri="http://schemas.openxmlformats.org/drawingml/2006/table">
            <a:tbl>
              <a:tblPr/>
              <a:tblGrid>
                <a:gridCol w="1152360"/>
                <a:gridCol w="496728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日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日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要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放送の案内に従っ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避難してくださ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その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業務に支障のない人は、その後、消火訓練に参加してくださ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5056200" y="1297080"/>
            <a:ext cx="18558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848600" y="144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Meiryo UI"/>
              </a:rPr>
              <a:t>総務部からのご案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2040" y="9414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以下の申請は総務部まで・・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287280" y="1584360"/>
          <a:ext cx="6120000" cy="1857240"/>
        </p:xfrm>
        <a:graphic>
          <a:graphicData uri="http://schemas.openxmlformats.org/drawingml/2006/table">
            <a:tbl>
              <a:tblPr/>
              <a:tblGrid>
                <a:gridCol w="3384720"/>
                <a:gridCol w="273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期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時差通勤申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8/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自動車通勤申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8/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旅費申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8/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04320" y="144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Meiryo UI"/>
              </a:rPr>
              <a:t>チーム別成績発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9414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Meiryo UI"/>
              </a:rPr>
              <a:t>●●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販売部　今年度契約レー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287280" y="1512720"/>
          <a:ext cx="6408720" cy="2070360"/>
        </p:xfrm>
        <a:graphic>
          <a:graphicData uri="http://schemas.openxmlformats.org/drawingml/2006/table">
            <a:tbl>
              <a:tblPr/>
              <a:tblGrid>
                <a:gridCol w="1873440"/>
                <a:gridCol w="201600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15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契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  <a:ea typeface="Meiryo UI"/>
                        </a:rPr>
                        <a:t>おめでとう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13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契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おしい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7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契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もうちょっ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契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  <a:ea typeface="Meiryo UI"/>
                        </a:rPr>
                        <a:t>次回はガンバ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83" name="" descr="「イラストや　表彰」の画像検索結果"/>
          <p:cNvPicPr/>
          <p:nvPr/>
        </p:nvPicPr>
        <p:blipFill>
          <a:blip r:embed="rId2"/>
          <a:stretch/>
        </p:blipFill>
        <p:spPr>
          <a:xfrm>
            <a:off x="4541760" y="34920"/>
            <a:ext cx="2376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796400" y="144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Meiryo UI"/>
              </a:rPr>
              <a:t>社内提出スケジュー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92040" y="9414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ahoma"/>
                <a:ea typeface="Meiryo UI"/>
              </a:rPr>
              <a:t>忘れずに総務部へ提出してください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287280" y="1512720"/>
          <a:ext cx="6120000" cy="2070360"/>
        </p:xfrm>
        <a:graphic>
          <a:graphicData uri="http://schemas.openxmlformats.org/drawingml/2006/table">
            <a:tbl>
              <a:tblPr/>
              <a:tblGrid>
                <a:gridCol w="1297080"/>
                <a:gridCol w="48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7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固定資産管理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7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現況調査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7/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月期 自治点検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8/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月期勤務管理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87" name="" descr="「イラストや　書類提出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0360" y="1440000"/>
            <a:ext cx="2092320" cy="244944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4608360" y="2665440"/>
            <a:ext cx="1727280" cy="792000"/>
          </a:xfrm>
          <a:prstGeom prst="wedgeEllipseCallout">
            <a:avLst>
              <a:gd name="adj1" fmla="val 28217"/>
              <a:gd name="adj2" fmla="val -61824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  <a:ea typeface="HGP創英角ﾎﾟｯﾌﾟ体"/>
              </a:rPr>
              <a:t>遅れずに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2020320" y="144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Meiryo UI"/>
              </a:rPr>
              <a:t>夏のイベント情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2040" y="9414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ahoma"/>
                <a:ea typeface="Meiryo UI"/>
              </a:rPr>
              <a:t>仕事のリフレッシュの参考にどう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87280" y="1512720"/>
          <a:ext cx="6120000" cy="2070360"/>
        </p:xfrm>
        <a:graphic>
          <a:graphicData uri="http://schemas.openxmlformats.org/drawingml/2006/table">
            <a:tbl>
              <a:tblPr/>
              <a:tblGrid>
                <a:gridCol w="1297080"/>
                <a:gridCol w="48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〇〇花火大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▲▲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地区盆踊り大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夜のイルミネーショ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8/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Meiryo UI"/>
                        </a:rPr>
                        <a:t>ビールフェス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144360"/>
            <a:ext cx="6912000" cy="70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Meiryo UI"/>
              </a:rPr>
              <a:t>よろしくお願いします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2040" y="94140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Meiryo UI"/>
              </a:rPr>
              <a:t>新たに私たちの仲間になりまし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287280" y="1512720"/>
          <a:ext cx="6120000" cy="2070360"/>
        </p:xfrm>
        <a:graphic>
          <a:graphicData uri="http://schemas.openxmlformats.org/drawingml/2006/table">
            <a:tbl>
              <a:tblPr/>
              <a:tblGrid>
                <a:gridCol w="1297080"/>
                <a:gridCol w="48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名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山本　花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部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●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部▲▲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趣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スキューバーダイビン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ひとこ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頑張って仕事を覚えます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95" name="" descr="「イラストや　社員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27640" y="1152360"/>
            <a:ext cx="129852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144360"/>
            <a:ext cx="691200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Meiryo UI"/>
              </a:rPr>
              <a:t>お客様の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982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Meiryo UI"/>
              </a:rPr>
              <a:t>お客様から寄せられた声で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216000" y="1800360"/>
          <a:ext cx="6497640" cy="1714320"/>
        </p:xfrm>
        <a:graphic>
          <a:graphicData uri="http://schemas.openxmlformats.org/drawingml/2006/table">
            <a:tbl>
              <a:tblPr/>
              <a:tblGrid>
                <a:gridCol w="1163520"/>
                <a:gridCol w="3930840"/>
                <a:gridCol w="14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代</a:t>
                      </a:r>
                      <a:br>
                        <a:rPr sz="2400"/>
                      </a:b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女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色違いの商品が届きました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外装も汚れていました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配送部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3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不良品のためメールを送信しましたが、返信がありません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617400"/>
                          <a:tab algn="l" pos="1235160"/>
                          <a:tab algn="l" pos="1852560"/>
                          <a:tab algn="l" pos="2470320"/>
                          <a:tab algn="l" pos="3087720"/>
                          <a:tab algn="l" pos="3705120"/>
                          <a:tab algn="l" pos="4322880"/>
                          <a:tab algn="l" pos="4940280"/>
                          <a:tab algn="l" pos="5557680"/>
                          <a:tab algn="l" pos="6175440"/>
                          <a:tab algn="l" pos="6792840"/>
                          <a:tab algn="l" pos="7410600"/>
                          <a:tab algn="l" pos="8028000"/>
                          <a:tab algn="l" pos="8645400"/>
                          <a:tab algn="l" pos="9263160"/>
                          <a:tab algn="l" pos="9880560"/>
                          <a:tab algn="l" pos="1049796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Meiryo UI"/>
                        </a:rPr>
                        <a:t>サポート部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99" name="" descr="「イラストや　オペレータ」の画像検索結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0"/>
            <a:ext cx="10555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0T11:59:45Z</dcterms:created>
  <dc:creator>corei7</dc:creator>
  <dc:description/>
  <dc:language>en-US</dc:language>
  <cp:lastModifiedBy>corei7</cp:lastModifiedBy>
  <dcterms:modified xsi:type="dcterms:W3CDTF">2019-07-10T13:51:47Z</dcterms:modified>
  <cp:revision>22</cp:revision>
  <dc:subject/>
  <dc:title>スライド 1</dc:title>
</cp:coreProperties>
</file>