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6911975" cy="3887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1017-BD08-41DC-9B2D-EA063C9B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6800" y="246384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E5B5-3783-436F-8915-11D8DD66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2ED98-9B95-44AC-92D4-BC055DAB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4918B-A758-4EA0-9657-76B10C46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345960" y="820800"/>
            <a:ext cx="6220080" cy="45702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A9881-6CDB-41B8-B498-F979D002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2CAEF-41FF-4793-9744-2255F5AD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351612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C43DD-76DA-438C-866C-88D40FE7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BFFAA-D6C6-45CC-A602-0927580A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1036800" y="246384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68DA8-2894-4A18-A1E5-AA5D76DD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351612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BCCD4-76F4-45FD-B0EF-A07C87DF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267264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30884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103680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267264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430884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68377-7D03-4E2B-8CFC-81131838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91DD3-FFE3-47FB-BBD4-D84CA9C4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1612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E31-FADA-4128-B6C7-5DB780A6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036800" y="1944720"/>
            <a:ext cx="4838400" cy="9936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8934F-1F96-47D4-91F7-B654BCF9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48384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B584F-417E-4649-86D8-EF9BD665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91F59-8593-4111-8F3E-503844CF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43981-4AC0-4940-ADE5-4E914B97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345960" y="820800"/>
            <a:ext cx="6220080" cy="45702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C2A7B-62A0-4F96-9F46-09102920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856BF-9E89-4EAE-89A9-B2156F93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351612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98832-3D54-4F99-84B8-162CCD6E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2A934-3C2B-47D4-8E06-00516E3D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036800" y="246384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1B2EB-DED4-4BD3-B8F5-71B62A49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351612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13409-08B3-402D-A57D-E02FF6DA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264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0884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680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264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30884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B6F-8CDA-4BC4-873D-30737B66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267264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30884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03680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267264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430884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88EB6-B531-4136-A960-CB53C98A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DA23C-B5C9-4C5A-9097-A51A7CC8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36800" y="1944720"/>
            <a:ext cx="4838400" cy="9936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02C88-D00A-4B15-8437-D9005B2A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48384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DE6E1-B4A1-47C6-AC89-5CE35270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3ABA2-4981-44D1-B5E2-9C79A25E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CFDDA-9EFA-426D-B09D-CE17B2E1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45960" y="820800"/>
            <a:ext cx="6220080" cy="45702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9CE07-EDEA-4D2D-832D-D7731495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4D518-EEED-49BD-B115-E9585A61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6800" y="1944720"/>
            <a:ext cx="4838400" cy="9936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81BB-086D-4CD4-A6B1-65A463F5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1612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F85B4-2ED4-4BC2-8169-7F384769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C414A-38D3-4B5B-B3B9-5B62661E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36800" y="246384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1F50D-35A6-461D-95DB-D11A75E9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51612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4F7B9-F490-423C-B04C-BCB4C85F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67264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30884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3680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67264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30884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24BEC-3B27-4C4B-8672-6736321A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3EC2D-4456-4942-B9F7-582BAFFB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036800" y="1944720"/>
            <a:ext cx="4838400" cy="9936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3C1E9-2CD4-4F6B-AB40-0E50D84A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48384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9B284-F12E-4BC5-A89E-578D552D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8F370-3595-45C6-958A-374CE7B8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85F80-6C84-470C-B3CB-6F839649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48384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AB5E-90DD-4FA0-B294-B7B89232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45960" y="820800"/>
            <a:ext cx="6220080" cy="45702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F1782-ADDC-44F2-B897-8B1C93DE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4801D-BB75-449B-929E-4669A4C8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51612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8A36C-4051-45EB-B15E-21BC0277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724C4-FD86-4A60-B992-D05258E7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036800" y="246384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043B1-739B-49C8-B73B-1CAF551B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51612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1E5F5-3FF2-4230-8F1E-E3ADC607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67264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30884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03680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267264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430884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5A255-5FF7-4D3C-8693-B86E32F6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8925E2-60BF-4C2E-BC85-86C6C5CF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036800" y="1944720"/>
            <a:ext cx="4838400" cy="9936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649DAC-BD8D-4FF5-BE0F-2F2B8EDA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48384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9B77C2-BF39-472B-B164-408F4D4D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E25-96FA-42B1-8358-EC8BF3F4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035D40-1254-47FA-A4C2-F098E48C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E7C6D9-645B-4348-9D41-133306D2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45960" y="820800"/>
            <a:ext cx="6220080" cy="45702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9ED629-0DBD-4C20-8B92-D09945E0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28728D-70AE-4CD3-B2C9-B0998301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51612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CB7B3C-9F23-4402-B3AF-A54B1ECA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76C71E-5513-4747-B41B-48E50A91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036800" y="246384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A45732-E95E-4B7F-AF96-E679D8F1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351612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338CB2-6D3B-491F-9D96-AA5DEF93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67264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30884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03680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67264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430884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BD5048-21F2-49EF-B7AE-5CF81911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1D03A-08CA-472C-8864-3252E29D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1FD-5D53-4D37-A29C-8068AAF9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036800" y="1944720"/>
            <a:ext cx="4838400" cy="9936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460A0-91A5-42D0-A4F8-B5910267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48384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681DC-4CE8-454C-9350-CF1E5940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F29F9-8A4E-4A71-80C3-A88006C5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F76F8-5F92-4EC8-AE4E-24674080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45960" y="820800"/>
            <a:ext cx="6220080" cy="45702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35820-189A-48CA-92DA-5A2ACFDC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25B44-8FCE-4A97-ACEE-293394B1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51612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6FAE6-31E4-4C2E-94E1-57633FB9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18B16-0183-48F7-9729-A055A273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036800" y="246384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752D0-9E1D-4205-87FD-FB6A551D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51612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8AA09-056E-4570-A3CA-61893E5B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5960" y="820800"/>
            <a:ext cx="6220080" cy="45702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CEBE-96CF-4A5A-8A7B-714073E4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267264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30884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03680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267264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430884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8364D-A560-4F36-83C5-2F1C7C8C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50A6C-3B77-42F9-BCD4-4AC19AD8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1036800" y="1944720"/>
            <a:ext cx="4838400" cy="9936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6FE7E-4D05-461B-91B9-620046D3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48384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23936-CD6C-420F-991F-24100E11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42B29-BECE-4286-B256-855A6893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62724-5566-436E-974C-47E1ADF7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345960" y="820800"/>
            <a:ext cx="6220080" cy="45702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1FE8E-C273-4A25-9BF1-D5338CB2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67BBD-9621-4B0C-AC5B-EDEBC3B5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351612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57012-B15A-44BD-B344-B2A1C850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3D845-9B0B-4AA4-9F85-154F5FF3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8D4-3EC8-47BF-9D81-57F27FAE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1036800" y="246384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A1A83-A2BA-4B51-AAC9-7BD88C3A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51612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6D0E7-C481-4E48-9540-B8C23658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67264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30884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103680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67264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430884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05116-585E-4BD5-AAB5-F5AB5DFD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4CC6B-60F2-4F83-869C-6FDCF159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1036800" y="1944720"/>
            <a:ext cx="4838400" cy="9936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F59CB-F522-448B-A007-5E383E9C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48384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62697-56C7-4B75-AB22-9086EACF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D9377-466B-45E2-80DC-6F8EA246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EDB30-2D48-4D1E-AD7F-B72BB868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345960" y="820800"/>
            <a:ext cx="6220080" cy="45702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2A109-F243-42C4-8144-D1BEF385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0C059-5A10-4AA5-88CF-40ABAC71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1612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B39-EC7B-455A-B19E-A2A3287E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51612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96D8B-9FD4-4F59-8BF2-FDE5BF5D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5ECD1-52D5-49D2-8E1E-B04E06FC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1036800" y="246384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04EE5-84D5-402A-B77E-5D4A4FBA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51612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FE3F3-0CB3-44F4-9623-6245D2EF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67264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30884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103680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67264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430884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15A2F-9791-4C37-9C81-BF7889E8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5FEA3-13E1-4F41-A028-7394E549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036800" y="1944720"/>
            <a:ext cx="4838400" cy="9936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3C0D4-D531-4F02-A14B-4E500129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48384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61622-674F-488D-8CD7-6E335392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2D2A2-2C29-4B08-BC99-BFA03E50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457C0-332C-42AD-BB1F-5D6286BB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1A10-E336-42A9-83E2-F575A9BA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345960" y="820800"/>
            <a:ext cx="6220080" cy="45702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3B0CB-53D9-40B0-8551-5A7D2211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7E18B-5D4D-45DC-86A2-FD7EB96D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351612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6D646-5DB5-40AE-A42D-382F4FFE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82129-C8F4-44E8-9E43-77DBAA61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1036800" y="2463840"/>
            <a:ext cx="483840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2C000-C72E-4FC4-BE6C-793D096B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516120" y="194472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03680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3516120" y="2463840"/>
            <a:ext cx="23608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DC4E3-FB83-4784-98C3-E72529BD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267264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308840" y="194472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103680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267264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4308840" y="2463840"/>
            <a:ext cx="155772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CBADD-D6DD-49BE-A990-CA55B75E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F02A2-4F68-4CDC-8542-7D18D4E5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1036800" y="1944720"/>
            <a:ext cx="4838400" cy="9936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0B161-4814-4C21-8BFB-89CA9506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036800" y="1944720"/>
            <a:ext cx="48384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D2817-C680-45BF-A270-9ED90CB9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5960" y="165240"/>
            <a:ext cx="6220080" cy="7855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960" y="1081080"/>
            <a:ext cx="6220080" cy="23335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82000"/>
          </a:bodyPr>
          <a:p>
            <a:pPr marL="190080" indent="-190080"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411120" indent="-15876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632520" indent="-126000"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885240" indent="-12600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4" marL="1139040" indent="-12600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5" marL="1139040" indent="-12600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6" marL="1139040" indent="-12600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5600" y="3541680"/>
            <a:ext cx="1613160" cy="270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3541680"/>
            <a:ext cx="2187360" cy="270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52520" y="3541680"/>
            <a:ext cx="1613160" cy="270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BD88D743-F7E6-4298-9302-45C9789C6A17}" type="slidenum">
              <a:rPr b="0" lang="ja-JP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"/>
          <p:cNvGrpSpPr/>
          <p:nvPr/>
        </p:nvGrpSpPr>
        <p:grpSpPr>
          <a:xfrm>
            <a:off x="0" y="0"/>
            <a:ext cx="6912000" cy="3931920"/>
            <a:chOff x="0" y="0"/>
            <a:chExt cx="6912000" cy="3931920"/>
          </a:xfrm>
        </p:grpSpPr>
        <p:sp>
          <p:nvSpPr>
            <p:cNvPr id="808" name=""/>
            <p:cNvSpPr/>
            <p:nvPr/>
          </p:nvSpPr>
          <p:spPr>
            <a:xfrm>
              <a:off x="0" y="1987560"/>
              <a:ext cx="3017880" cy="177336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0" y="2247120"/>
              <a:ext cx="2534040" cy="14439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510280" y="2910600"/>
              <a:ext cx="4401360" cy="84852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0" y="471600"/>
              <a:ext cx="1167480" cy="107568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825360" y="720"/>
              <a:ext cx="3083760" cy="204012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229640" y="720"/>
              <a:ext cx="2621880" cy="1357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0" y="584280"/>
              <a:ext cx="978840" cy="7254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0" y="1390680"/>
              <a:ext cx="914040" cy="96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76680" y="3088800"/>
              <a:ext cx="3818520" cy="6703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30400" y="114120"/>
              <a:ext cx="1080" cy="72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44800" y="117720"/>
              <a:ext cx="1080" cy="72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0" y="3629520"/>
              <a:ext cx="6912000" cy="259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0" y="3629520"/>
              <a:ext cx="6912000" cy="3024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0" y="0"/>
              <a:ext cx="6912000" cy="259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10920" y="205920"/>
              <a:ext cx="3825360" cy="18219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612800" y="263520"/>
              <a:ext cx="2572560" cy="160848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518280" y="1555560"/>
              <a:ext cx="3393720" cy="212976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791880" y="1674360"/>
              <a:ext cx="2594160" cy="174096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19120" y="1036800"/>
            <a:ext cx="587376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dt" idx="28"/>
          </p:nvPr>
        </p:nvSpPr>
        <p:spPr>
          <a:xfrm>
            <a:off x="345600" y="3543120"/>
            <a:ext cx="16131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ftr" idx="29"/>
          </p:nvPr>
        </p:nvSpPr>
        <p:spPr>
          <a:xfrm>
            <a:off x="2362320" y="3543120"/>
            <a:ext cx="21873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sldNum" idx="30"/>
          </p:nvPr>
        </p:nvSpPr>
        <p:spPr>
          <a:xfrm>
            <a:off x="4952520" y="3543120"/>
            <a:ext cx="16131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D0A65A0D-5B27-42C4-BDAD-DCFB6202D6DA}" type="slidenum">
              <a:rPr b="0" lang="ja-JP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body"/>
          </p:nvPr>
        </p:nvSpPr>
        <p:spPr>
          <a:xfrm>
            <a:off x="345600" y="909720"/>
            <a:ext cx="6220440" cy="22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07800" indent="0" algn="ctr">
              <a:spcBef>
                <a:spcPts val="476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617400" algn="ctr">
              <a:spcBef>
                <a:spcPts val="4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925560" algn="ctr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1235160" algn="ctr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5" marL="123516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6" marL="123516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9120" y="1131840"/>
            <a:ext cx="5873760" cy="812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 anchorCtr="1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16000" y="1590840"/>
            <a:ext cx="1440" cy="172080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2362320" y="3541680"/>
            <a:ext cx="2187360" cy="270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4952520" y="3541680"/>
            <a:ext cx="1613160" cy="270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CF5369FE-3531-4507-8CC1-3D69C0327BFA}" type="slidenum">
              <a:rPr b="0" lang="ja-JP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345600" y="3541680"/>
            <a:ext cx="1613160" cy="270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345600" y="909720"/>
            <a:ext cx="6220440" cy="22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307800" indent="0" algn="ctr">
              <a:spcBef>
                <a:spcPts val="476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617400" algn="ctr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925560" algn="ctr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4" marL="1235160" algn="ctr">
              <a:spcBef>
                <a:spcPts val="34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5" marL="1235160"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6" marL="1235160"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6912000" cy="3889440"/>
            <a:chOff x="0" y="0"/>
            <a:chExt cx="6912000" cy="3889440"/>
          </a:xfrm>
        </p:grpSpPr>
        <p:sp>
          <p:nvSpPr>
            <p:cNvPr id="84" name=""/>
            <p:cNvSpPr/>
            <p:nvPr/>
          </p:nvSpPr>
          <p:spPr>
            <a:xfrm>
              <a:off x="0" y="2765880"/>
              <a:ext cx="6912000" cy="112356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0"/>
              <a:ext cx="6912000" cy="27658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722840" y="3551400"/>
            <a:ext cx="2189160" cy="34596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3414600"/>
            <a:ext cx="5931720" cy="485640"/>
            <a:chOff x="0" y="3414600"/>
            <a:chExt cx="5931720" cy="485640"/>
          </a:xfrm>
        </p:grpSpPr>
        <p:sp>
          <p:nvSpPr>
            <p:cNvPr id="88" name=""/>
            <p:cNvSpPr/>
            <p:nvPr/>
          </p:nvSpPr>
          <p:spPr>
            <a:xfrm>
              <a:off x="1785240" y="3414600"/>
              <a:ext cx="3887280" cy="4824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982960" y="3414600"/>
              <a:ext cx="2948760" cy="485640"/>
              <a:chOff x="2982960" y="3414600"/>
              <a:chExt cx="2948760" cy="485640"/>
            </a:xfrm>
          </p:grpSpPr>
          <p:sp>
            <p:nvSpPr>
              <p:cNvPr id="90" name=""/>
              <p:cNvSpPr/>
              <p:nvPr/>
            </p:nvSpPr>
            <p:spPr>
              <a:xfrm>
                <a:off x="4736880" y="3420720"/>
                <a:ext cx="1194840" cy="47952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11920" y="3414600"/>
                <a:ext cx="222840" cy="3556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635280" y="3505320"/>
                <a:ext cx="453240" cy="24372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352760" y="3480840"/>
                <a:ext cx="185760" cy="6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82960" y="3474720"/>
                <a:ext cx="50040" cy="727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0" y="3414600"/>
              <a:ext cx="4770720" cy="48132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74840" y="3414600"/>
            <a:ext cx="4295160" cy="482760"/>
            <a:chOff x="474840" y="3414600"/>
            <a:chExt cx="4295160" cy="482760"/>
          </a:xfrm>
        </p:grpSpPr>
        <p:sp>
          <p:nvSpPr>
            <p:cNvPr id="97" name=""/>
            <p:cNvSpPr/>
            <p:nvPr/>
          </p:nvSpPr>
          <p:spPr>
            <a:xfrm>
              <a:off x="1435320" y="3414600"/>
              <a:ext cx="437760" cy="2624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31360" y="3447000"/>
              <a:ext cx="2438640" cy="4503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96000" y="3441600"/>
              <a:ext cx="84960" cy="5472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6360" y="3458520"/>
              <a:ext cx="192960" cy="14796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7440" y="3469320"/>
              <a:ext cx="70560" cy="5472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4840" y="3430440"/>
              <a:ext cx="293760" cy="18684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5960" y="129960"/>
            <a:ext cx="6220080" cy="647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345960" y="907920"/>
            <a:ext cx="6220080" cy="25495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90000"/>
          </a:bodyPr>
          <a:p>
            <a:pPr marL="208440" indent="-20844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1080" indent="-1742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94080" indent="-13860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71640" indent="-13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0280" indent="-13860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0280" indent="-13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0280" indent="-13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345600" y="3543120"/>
            <a:ext cx="16131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362320" y="3543120"/>
            <a:ext cx="21873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4952520" y="3543120"/>
            <a:ext cx="16131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6F6AA328-97E7-4E25-9A1E-C1039E5333E0}" type="slidenum">
              <a:rPr b="0" lang="ja-JP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-4680" y="11160"/>
            <a:ext cx="6912000" cy="3889440"/>
            <a:chOff x="-4680" y="11160"/>
            <a:chExt cx="6912000" cy="3889440"/>
          </a:xfrm>
        </p:grpSpPr>
        <p:sp>
          <p:nvSpPr>
            <p:cNvPr id="145" name=""/>
            <p:cNvSpPr/>
            <p:nvPr/>
          </p:nvSpPr>
          <p:spPr>
            <a:xfrm>
              <a:off x="-4680" y="2777040"/>
              <a:ext cx="6912000" cy="112356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-4680" y="11160"/>
              <a:ext cx="6912000" cy="27658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718160" y="3556080"/>
            <a:ext cx="2189160" cy="34452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-1440" y="3422520"/>
            <a:ext cx="5930280" cy="482760"/>
            <a:chOff x="-1440" y="3422520"/>
            <a:chExt cx="5930280" cy="482760"/>
          </a:xfrm>
        </p:grpSpPr>
        <p:sp>
          <p:nvSpPr>
            <p:cNvPr id="149" name=""/>
            <p:cNvSpPr/>
            <p:nvPr/>
          </p:nvSpPr>
          <p:spPr>
            <a:xfrm>
              <a:off x="1784160" y="3422520"/>
              <a:ext cx="3888000" cy="48276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981880" y="3422520"/>
              <a:ext cx="2946960" cy="482400"/>
              <a:chOff x="2981880" y="3422520"/>
              <a:chExt cx="2946960" cy="482400"/>
            </a:xfrm>
          </p:grpSpPr>
          <p:sp>
            <p:nvSpPr>
              <p:cNvPr id="151" name=""/>
              <p:cNvSpPr/>
              <p:nvPr/>
            </p:nvSpPr>
            <p:spPr>
              <a:xfrm>
                <a:off x="4736160" y="3428640"/>
                <a:ext cx="1192680" cy="47628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210840" y="3422520"/>
                <a:ext cx="222840" cy="3556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34200" y="3513240"/>
                <a:ext cx="453600" cy="24408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1680" y="3489120"/>
                <a:ext cx="186120" cy="6660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81880" y="3482640"/>
                <a:ext cx="50040" cy="727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-1440" y="3422520"/>
              <a:ext cx="4771080" cy="4820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74840" y="3414600"/>
            <a:ext cx="4295160" cy="482760"/>
            <a:chOff x="474840" y="3414600"/>
            <a:chExt cx="4295160" cy="482760"/>
          </a:xfrm>
        </p:grpSpPr>
        <p:sp>
          <p:nvSpPr>
            <p:cNvPr id="158" name=""/>
            <p:cNvSpPr/>
            <p:nvPr/>
          </p:nvSpPr>
          <p:spPr>
            <a:xfrm>
              <a:off x="1435320" y="3414600"/>
              <a:ext cx="437760" cy="2624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31360" y="3447000"/>
              <a:ext cx="2438640" cy="4503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96000" y="3441600"/>
              <a:ext cx="84960" cy="5472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26360" y="3458520"/>
              <a:ext cx="192960" cy="14796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47440" y="3469320"/>
              <a:ext cx="70560" cy="5472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4840" y="3430440"/>
              <a:ext cx="293760" cy="18684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45600" y="3543120"/>
            <a:ext cx="16131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1"/>
          </p:nvPr>
        </p:nvSpPr>
        <p:spPr>
          <a:xfrm>
            <a:off x="4952520" y="3543120"/>
            <a:ext cx="16131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74137E2E-60A8-43BE-8C33-0F544090CC45}" type="slidenum">
              <a:rPr b="0" lang="ja-JP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2362320" y="3543120"/>
            <a:ext cx="21873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345600" y="909720"/>
            <a:ext cx="6220440" cy="22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07800" indent="0" algn="ctr">
              <a:spcBef>
                <a:spcPts val="476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617400" algn="ctr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925560" algn="ctr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235160" algn="ctr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2351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2351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4750560" y="-18000"/>
            <a:ext cx="2233800" cy="1875960"/>
            <a:chOff x="4750560" y="-18000"/>
            <a:chExt cx="2233800" cy="1875960"/>
          </a:xfrm>
        </p:grpSpPr>
        <p:grpSp>
          <p:nvGrpSpPr>
            <p:cNvPr id="206" name=""/>
            <p:cNvGrpSpPr/>
            <p:nvPr/>
          </p:nvGrpSpPr>
          <p:grpSpPr>
            <a:xfrm>
              <a:off x="5720040" y="1418760"/>
              <a:ext cx="759240" cy="427680"/>
              <a:chOff x="5720040" y="1418760"/>
              <a:chExt cx="759240" cy="427680"/>
            </a:xfrm>
          </p:grpSpPr>
          <p:sp>
            <p:nvSpPr>
              <p:cNvPr id="207" name=""/>
              <p:cNvSpPr/>
              <p:nvPr/>
            </p:nvSpPr>
            <p:spPr>
              <a:xfrm>
                <a:off x="5720040" y="1418760"/>
                <a:ext cx="759240" cy="4276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992560" y="1605600"/>
                <a:ext cx="182880" cy="802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895000" y="819000"/>
              <a:ext cx="759600" cy="427680"/>
              <a:chOff x="5895000" y="819000"/>
              <a:chExt cx="759600" cy="427680"/>
            </a:xfrm>
          </p:grpSpPr>
          <p:sp>
            <p:nvSpPr>
              <p:cNvPr id="210" name=""/>
              <p:cNvSpPr/>
              <p:nvPr/>
            </p:nvSpPr>
            <p:spPr>
              <a:xfrm>
                <a:off x="5895000" y="819000"/>
                <a:ext cx="759600" cy="4276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167880" y="1005840"/>
                <a:ext cx="182880" cy="802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4784400" y="0"/>
              <a:ext cx="759600" cy="427680"/>
              <a:chOff x="4784400" y="0"/>
              <a:chExt cx="759600" cy="427680"/>
            </a:xfrm>
          </p:grpSpPr>
          <p:sp>
            <p:nvSpPr>
              <p:cNvPr id="213" name=""/>
              <p:cNvSpPr/>
              <p:nvPr/>
            </p:nvSpPr>
            <p:spPr>
              <a:xfrm>
                <a:off x="4784400" y="0"/>
                <a:ext cx="759600" cy="4276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57280" y="186840"/>
                <a:ext cx="182880" cy="802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750560" y="-18000"/>
              <a:ext cx="2233800" cy="1875960"/>
              <a:chOff x="4750560" y="-18000"/>
              <a:chExt cx="2233800" cy="187596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5284800" y="228600"/>
                <a:ext cx="1132560" cy="626760"/>
                <a:chOff x="5284800" y="228600"/>
                <a:chExt cx="1132560" cy="6267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5284800" y="228600"/>
                  <a:ext cx="1132560" cy="62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717520" y="457920"/>
                  <a:ext cx="224640" cy="11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750560" y="-18000"/>
                <a:ext cx="2151720" cy="1299240"/>
                <a:chOff x="4750560" y="-18000"/>
                <a:chExt cx="2151720" cy="129924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5981400" y="467640"/>
                  <a:ext cx="713520" cy="674640"/>
                  <a:chOff x="5981400" y="467640"/>
                  <a:chExt cx="713520" cy="6746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2711400">
                    <a:off x="5950080" y="627480"/>
                    <a:ext cx="50184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2711400">
                    <a:off x="6397920" y="884880"/>
                    <a:ext cx="26928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5940000" y="387000"/>
                  <a:ext cx="931680" cy="674640"/>
                  <a:chOff x="5940000" y="387000"/>
                  <a:chExt cx="931680" cy="67464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2103600">
                    <a:off x="5905080" y="579960"/>
                    <a:ext cx="7038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2103600">
                    <a:off x="6482520" y="808920"/>
                    <a:ext cx="37764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5933160" y="380160"/>
                  <a:ext cx="956520" cy="527400"/>
                  <a:chOff x="5933160" y="380160"/>
                  <a:chExt cx="956520" cy="5274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82800">
                    <a:off x="5917680" y="524880"/>
                    <a:ext cx="6728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480" bIns="42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82800">
                    <a:off x="6516360" y="695520"/>
                    <a:ext cx="36108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5929560" y="369720"/>
                  <a:ext cx="972720" cy="417960"/>
                  <a:chOff x="5929560" y="369720"/>
                  <a:chExt cx="972720" cy="417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1080000">
                    <a:off x="5928480" y="467640"/>
                    <a:ext cx="65016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1080000">
                    <a:off x="6537600" y="584280"/>
                    <a:ext cx="34920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5937840" y="363240"/>
                  <a:ext cx="919800" cy="252720"/>
                  <a:chOff x="5937840" y="363240"/>
                  <a:chExt cx="919800" cy="2527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463200">
                    <a:off x="5941080" y="402840"/>
                    <a:ext cx="59904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463200">
                    <a:off x="6527520" y="452160"/>
                    <a:ext cx="3218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5950800" y="358200"/>
                  <a:ext cx="835560" cy="106560"/>
                  <a:chOff x="5950800" y="358200"/>
                  <a:chExt cx="835560" cy="10656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21515400">
                    <a:off x="5951160" y="367560"/>
                    <a:ext cx="5443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21515400">
                    <a:off x="6492600" y="361440"/>
                    <a:ext cx="29232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5932800" y="230760"/>
                  <a:ext cx="737280" cy="206640"/>
                  <a:chOff x="5932800" y="230760"/>
                  <a:chExt cx="737280" cy="20664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20797200">
                    <a:off x="5933160" y="320400"/>
                    <a:ext cx="47808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20797200">
                    <a:off x="6405120" y="258840"/>
                    <a:ext cx="25668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4974120" y="503280"/>
                  <a:ext cx="714240" cy="675000"/>
                  <a:chOff x="4974120" y="503280"/>
                  <a:chExt cx="714240" cy="6750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flipH="1" rot="18888600">
                    <a:off x="5217120" y="663120"/>
                    <a:ext cx="50184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 rot="18888600">
                    <a:off x="5001840" y="920520"/>
                    <a:ext cx="26928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4780800" y="438120"/>
                  <a:ext cx="931680" cy="675000"/>
                  <a:chOff x="4780800" y="438120"/>
                  <a:chExt cx="931680" cy="67500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rot="19496400">
                    <a:off x="5043240" y="631080"/>
                    <a:ext cx="7038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rot="19496400">
                    <a:off x="4791600" y="860040"/>
                    <a:ext cx="37800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4762080" y="432000"/>
                  <a:ext cx="956160" cy="527400"/>
                  <a:chOff x="4762080" y="432000"/>
                  <a:chExt cx="956160" cy="5274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rot="20017200">
                    <a:off x="5060520" y="576720"/>
                    <a:ext cx="67248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840" bIns="428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20017200">
                    <a:off x="4773960" y="747720"/>
                    <a:ext cx="36144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4750560" y="421920"/>
                  <a:ext cx="972360" cy="417960"/>
                  <a:chOff x="4750560" y="421920"/>
                  <a:chExt cx="972360" cy="41796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 rot="20520000">
                    <a:off x="5073120" y="519840"/>
                    <a:ext cx="650160" cy="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rot="20520000">
                    <a:off x="4765320" y="636480"/>
                    <a:ext cx="34956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4794840" y="415080"/>
                  <a:ext cx="919080" cy="252000"/>
                  <a:chOff x="4794840" y="415080"/>
                  <a:chExt cx="919080" cy="2520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 rot="21136800">
                    <a:off x="5110920" y="454680"/>
                    <a:ext cx="5990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4640" bIns="44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rot="21136800">
                    <a:off x="4802400" y="503640"/>
                    <a:ext cx="3218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4865760" y="409320"/>
                  <a:ext cx="835560" cy="106560"/>
                  <a:chOff x="4865760" y="409320"/>
                  <a:chExt cx="835560" cy="10656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84600">
                    <a:off x="5155920" y="418680"/>
                    <a:ext cx="5443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84600">
                    <a:off x="4866480" y="412560"/>
                    <a:ext cx="29232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4981680" y="281880"/>
                  <a:ext cx="737640" cy="206640"/>
                  <a:chOff x="4981680" y="281880"/>
                  <a:chExt cx="737640" cy="20664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802800">
                    <a:off x="5240520" y="371880"/>
                    <a:ext cx="47808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802800">
                    <a:off x="4988880" y="309960"/>
                    <a:ext cx="25668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5024160" y="209880"/>
                  <a:ext cx="721440" cy="289440"/>
                  <a:chOff x="5024160" y="209880"/>
                  <a:chExt cx="721440" cy="28944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1278000">
                    <a:off x="5272560" y="352080"/>
                    <a:ext cx="47772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6920" bIns="16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1278000">
                    <a:off x="5032800" y="253080"/>
                    <a:ext cx="2563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5113440" y="108360"/>
                  <a:ext cx="666720" cy="406440"/>
                  <a:chOff x="5113440" y="108360"/>
                  <a:chExt cx="666720" cy="406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flipH="1" rot="2028600">
                    <a:off x="5324040" y="324360"/>
                    <a:ext cx="4784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6920" bIns="16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 rot="2028600">
                    <a:off x="5118840" y="171360"/>
                    <a:ext cx="25704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5202720" y="10080"/>
                  <a:ext cx="605880" cy="497520"/>
                  <a:chOff x="5202720" y="10080"/>
                  <a:chExt cx="605880" cy="49752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2664600">
                    <a:off x="5370840" y="284040"/>
                    <a:ext cx="48528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rot="2664600">
                    <a:off x="5199480" y="87120"/>
                    <a:ext cx="26100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391360" y="360"/>
                  <a:ext cx="415440" cy="459720"/>
                  <a:chOff x="5391360" y="360"/>
                  <a:chExt cx="415440" cy="4597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rot="3474000">
                    <a:off x="5525640" y="260280"/>
                    <a:ext cx="32040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7440" bIns="37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rot="3474000">
                    <a:off x="5406480" y="42480"/>
                    <a:ext cx="17208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5519160" y="-18000"/>
                  <a:ext cx="324360" cy="468360"/>
                  <a:chOff x="5519160" y="-18000"/>
                  <a:chExt cx="324360" cy="4683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rot="4126800">
                    <a:off x="5594400" y="249480"/>
                    <a:ext cx="30852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7800" bIns="37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rot="4126800">
                    <a:off x="5526720" y="17280"/>
                    <a:ext cx="16560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5895000" y="142200"/>
                  <a:ext cx="718200" cy="297000"/>
                  <a:chOff x="5895000" y="142200"/>
                  <a:chExt cx="718200" cy="29700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20274000">
                    <a:off x="5888880" y="288720"/>
                    <a:ext cx="47772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6920" bIns="16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20274000">
                    <a:off x="6347520" y="186480"/>
                    <a:ext cx="2563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5854680" y="60480"/>
                  <a:ext cx="677880" cy="391680"/>
                  <a:chOff x="5854680" y="60480"/>
                  <a:chExt cx="677880" cy="3916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rot="19678800">
                    <a:off x="5834880" y="267120"/>
                    <a:ext cx="4784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6920" bIns="16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rot="19678800">
                    <a:off x="6269040" y="120960"/>
                    <a:ext cx="2566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 flipH="1" rot="4578600">
                  <a:off x="5658840" y="268920"/>
                  <a:ext cx="299160" cy="558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 rot="4578600">
                  <a:off x="5644080" y="45720"/>
                  <a:ext cx="160200" cy="889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5" name=""/>
                <p:cNvGrpSpPr/>
                <p:nvPr/>
              </p:nvGrpSpPr>
              <p:grpSpPr>
                <a:xfrm>
                  <a:off x="5816880" y="-12600"/>
                  <a:ext cx="342000" cy="458640"/>
                  <a:chOff x="5816880" y="-12600"/>
                  <a:chExt cx="342000" cy="45864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rot="17742000">
                    <a:off x="5761080" y="255240"/>
                    <a:ext cx="30924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5560" bIns="25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rot="17742000">
                    <a:off x="5989320" y="30240"/>
                    <a:ext cx="1659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5830920" y="7560"/>
                  <a:ext cx="534600" cy="446760"/>
                  <a:chOff x="5830920" y="7560"/>
                  <a:chExt cx="534600" cy="4467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rot="18822600">
                    <a:off x="5816520" y="244440"/>
                    <a:ext cx="33624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rot="18822600">
                    <a:off x="6153840" y="47160"/>
                    <a:ext cx="18036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5833800" y="-1800"/>
                  <a:ext cx="124200" cy="424800"/>
                  <a:chOff x="5833800" y="-1800"/>
                  <a:chExt cx="124200" cy="42480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rot="16696200">
                    <a:off x="5731200" y="266760"/>
                    <a:ext cx="2772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2600" bIns="-12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6696200">
                    <a:off x="5846760" y="49320"/>
                    <a:ext cx="1486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5099400" y="519120"/>
                  <a:ext cx="614880" cy="731160"/>
                  <a:chOff x="5099400" y="519120"/>
                  <a:chExt cx="614880" cy="73116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flipH="1" rot="18336000">
                    <a:off x="5267880" y="697680"/>
                    <a:ext cx="5014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 rot="18336000">
                    <a:off x="5120280" y="990360"/>
                    <a:ext cx="26892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5317920" y="550080"/>
                  <a:ext cx="420120" cy="723240"/>
                  <a:chOff x="5317920" y="550080"/>
                  <a:chExt cx="420120" cy="7232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flipH="1" rot="17543400">
                    <a:off x="5361840" y="727560"/>
                    <a:ext cx="46440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 rot="17543400">
                    <a:off x="5328360" y="1026720"/>
                    <a:ext cx="24912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5537160" y="565200"/>
                  <a:ext cx="249840" cy="697680"/>
                  <a:chOff x="5537160" y="565200"/>
                  <a:chExt cx="249840" cy="69768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flipH="1" rot="16870800">
                    <a:off x="5467680" y="739800"/>
                    <a:ext cx="44532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rot="16870800">
                    <a:off x="5524200" y="1043640"/>
                    <a:ext cx="23904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5946480" y="506520"/>
                  <a:ext cx="639360" cy="721440"/>
                  <a:chOff x="5946480" y="506520"/>
                  <a:chExt cx="639360" cy="72144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rot="3144000">
                    <a:off x="5896440" y="681480"/>
                    <a:ext cx="50184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rot="3144000">
                    <a:off x="6293520" y="968040"/>
                    <a:ext cx="26928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5922720" y="535680"/>
                  <a:ext cx="497160" cy="733680"/>
                  <a:chOff x="5922720" y="535680"/>
                  <a:chExt cx="497160" cy="7336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rot="3745200">
                    <a:off x="5844960" y="717120"/>
                    <a:ext cx="480240" cy="11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3745200">
                    <a:off x="6150600" y="1021680"/>
                    <a:ext cx="257760" cy="18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5888160" y="566640"/>
                  <a:ext cx="348120" cy="714600"/>
                  <a:chOff x="5888160" y="566640"/>
                  <a:chExt cx="348120" cy="71460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rot="4286400">
                    <a:off x="5774400" y="754920"/>
                    <a:ext cx="4658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4286400">
                    <a:off x="6000480" y="1064160"/>
                    <a:ext cx="24984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5856120" y="599040"/>
                  <a:ext cx="203760" cy="660600"/>
                  <a:chOff x="5856120" y="599040"/>
                  <a:chExt cx="203760" cy="66060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4898400">
                    <a:off x="5720040" y="770040"/>
                    <a:ext cx="4284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4898400">
                    <a:off x="5853960" y="1059840"/>
                    <a:ext cx="23004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5673960" y="610920"/>
                  <a:ext cx="197640" cy="644400"/>
                  <a:chOff x="5673960" y="610920"/>
                  <a:chExt cx="197640" cy="64440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rot="5755200">
                    <a:off x="5604480" y="786240"/>
                    <a:ext cx="41868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920" bIns="25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5755200">
                    <a:off x="5630040" y="1080000"/>
                    <a:ext cx="2246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8" name=""/>
              <p:cNvSpPr/>
              <p:nvPr/>
            </p:nvSpPr>
            <p:spPr>
              <a:xfrm flipH="1">
                <a:off x="5515200" y="693720"/>
                <a:ext cx="1886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5173560" y="517320"/>
                <a:ext cx="1647000" cy="134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5813640" y="131760"/>
                <a:ext cx="1170720" cy="119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5257080" y="430560"/>
                <a:ext cx="717840" cy="134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4915440" y="466200"/>
                <a:ext cx="1108440" cy="134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4846680" y="340200"/>
                <a:ext cx="1154880" cy="134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832360" y="437400"/>
                <a:ext cx="182160" cy="134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812560" y="434520"/>
                <a:ext cx="482760" cy="134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807880" y="343800"/>
                <a:ext cx="685080" cy="134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46560" y="767160"/>
                <a:ext cx="1879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 rot="19660800">
                <a:off x="5753520" y="626040"/>
                <a:ext cx="170640" cy="244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4794120" y="236880"/>
                <a:ext cx="1154880" cy="134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4893480" y="91080"/>
                <a:ext cx="971280" cy="134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8200" y="372600"/>
                <a:ext cx="409320" cy="134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954680" y="729000"/>
                <a:ext cx="420120" cy="443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5153400" y="259560"/>
                <a:ext cx="270000" cy="44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464080" y="127440"/>
                <a:ext cx="162000" cy="443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72800" y="663840"/>
                <a:ext cx="390600" cy="46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70120" y="427680"/>
                <a:ext cx="588240" cy="311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91720" y="97920"/>
                <a:ext cx="257040" cy="417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253000">
                <a:off x="6037560" y="444600"/>
                <a:ext cx="171720" cy="244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rot="1347000">
                <a:off x="5426280" y="437760"/>
                <a:ext cx="171000" cy="243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19120" y="171360"/>
            <a:ext cx="5873760" cy="828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519120" y="1123920"/>
            <a:ext cx="5873760" cy="23335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82000"/>
          </a:bodyPr>
          <a:p>
            <a:pPr marL="190080" indent="-190080">
              <a:spcBef>
                <a:spcPts val="550"/>
              </a:spcBef>
              <a:buClr>
                <a:srgbClr val="ff3399"/>
              </a:buClr>
              <a:buFont typeface="Arial Black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lvl="1" marL="411120" indent="-158760">
              <a:spcBef>
                <a:spcPts val="550"/>
              </a:spcBef>
              <a:buClr>
                <a:srgbClr val="fe1f08"/>
              </a:buClr>
              <a:buFont typeface="Arial Black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lvl="2" marL="632520" indent="-126000">
              <a:spcBef>
                <a:spcPts val="550"/>
              </a:spcBef>
              <a:buClr>
                <a:srgbClr val="ffcc00"/>
              </a:buClr>
              <a:buFont typeface="Arial Black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lvl="3" marL="885240" indent="-126000">
              <a:spcBef>
                <a:spcPts val="550"/>
              </a:spcBef>
              <a:buClr>
                <a:srgbClr val="ffcc00"/>
              </a:buClr>
              <a:buFont typeface="Times New Roman"/>
              <a:buChar char="−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lvl="4" marL="1139040" indent="-126000">
              <a:spcBef>
                <a:spcPts val="550"/>
              </a:spcBef>
              <a:buClr>
                <a:srgbClr val="ffcc00"/>
              </a:buClr>
              <a:buFont typeface="Times New Roman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lvl="5" marL="1139040" indent="-126000">
              <a:spcBef>
                <a:spcPts val="550"/>
              </a:spcBef>
              <a:buClr>
                <a:srgbClr val="ffcc00"/>
              </a:buClr>
              <a:buFont typeface="Times New Roman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lvl="6" marL="1139040" indent="-126000">
              <a:spcBef>
                <a:spcPts val="550"/>
              </a:spcBef>
              <a:buClr>
                <a:srgbClr val="ffcc00"/>
              </a:buClr>
              <a:buFont typeface="Times New Roman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3"/>
          </p:nvPr>
        </p:nvSpPr>
        <p:spPr>
          <a:xfrm>
            <a:off x="519120" y="3543120"/>
            <a:ext cx="144000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9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4"/>
          </p:nvPr>
        </p:nvSpPr>
        <p:spPr>
          <a:xfrm>
            <a:off x="2362320" y="3543120"/>
            <a:ext cx="21873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9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5"/>
          </p:nvPr>
        </p:nvSpPr>
        <p:spPr>
          <a:xfrm>
            <a:off x="4952880" y="3543120"/>
            <a:ext cx="144000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9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CED39584-9CE5-4631-BAE1-D369DC4FE5DF}" type="slidenum">
              <a:rPr b="0" lang="ja-JP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1540080" y="124200"/>
            <a:ext cx="5367600" cy="4508280"/>
            <a:chOff x="1540080" y="124200"/>
            <a:chExt cx="5367600" cy="4508280"/>
          </a:xfrm>
        </p:grpSpPr>
        <p:grpSp>
          <p:nvGrpSpPr>
            <p:cNvPr id="382" name=""/>
            <p:cNvGrpSpPr/>
            <p:nvPr/>
          </p:nvGrpSpPr>
          <p:grpSpPr>
            <a:xfrm>
              <a:off x="2633040" y="540360"/>
              <a:ext cx="714960" cy="402120"/>
              <a:chOff x="2633040" y="540360"/>
              <a:chExt cx="714960" cy="402120"/>
            </a:xfrm>
          </p:grpSpPr>
          <p:sp>
            <p:nvSpPr>
              <p:cNvPr id="383" name=""/>
              <p:cNvSpPr/>
              <p:nvPr/>
            </p:nvSpPr>
            <p:spPr>
              <a:xfrm>
                <a:off x="2633040" y="540360"/>
                <a:ext cx="714960" cy="4021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889720" y="716040"/>
                <a:ext cx="172080" cy="75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1540080" y="124200"/>
              <a:ext cx="5367600" cy="4384800"/>
              <a:chOff x="1540080" y="124200"/>
              <a:chExt cx="5367600" cy="438480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1540080" y="124200"/>
                <a:ext cx="5169960" cy="3120840"/>
                <a:chOff x="1540080" y="124200"/>
                <a:chExt cx="5169960" cy="3120840"/>
              </a:xfrm>
            </p:grpSpPr>
            <p:grpSp>
              <p:nvGrpSpPr>
                <p:cNvPr id="387" name=""/>
                <p:cNvGrpSpPr/>
                <p:nvPr/>
              </p:nvGrpSpPr>
              <p:grpSpPr>
                <a:xfrm>
                  <a:off x="2824200" y="717480"/>
                  <a:ext cx="2720160" cy="1504080"/>
                  <a:chOff x="2824200" y="717480"/>
                  <a:chExt cx="2720160" cy="150408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2824200" y="717480"/>
                    <a:ext cx="2720160" cy="150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863160" y="1267560"/>
                    <a:ext cx="539280" cy="28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1540080" y="124200"/>
                  <a:ext cx="5169960" cy="3120840"/>
                  <a:chOff x="1540080" y="124200"/>
                  <a:chExt cx="5169960" cy="3120840"/>
                </a:xfrm>
              </p:grpSpPr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4496760" y="1290960"/>
                    <a:ext cx="1716840" cy="1621440"/>
                    <a:chOff x="4496760" y="1290960"/>
                    <a:chExt cx="1716840" cy="162144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rot="2711400">
                      <a:off x="4421880" y="1675440"/>
                      <a:ext cx="1205640" cy="2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rot="2711400">
                      <a:off x="5500080" y="2293560"/>
                      <a:ext cx="646920" cy="45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4397760" y="1096560"/>
                    <a:ext cx="2239200" cy="1621080"/>
                    <a:chOff x="4397760" y="1096560"/>
                    <a:chExt cx="2239200" cy="1621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rot="2103600">
                      <a:off x="4313880" y="1559880"/>
                      <a:ext cx="1690560" cy="24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rot="2103600">
                      <a:off x="5702040" y="2110680"/>
                      <a:ext cx="907560" cy="38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4382280" y="1081440"/>
                    <a:ext cx="2299680" cy="1267200"/>
                    <a:chOff x="4382280" y="1081440"/>
                    <a:chExt cx="2299680" cy="126720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1582800">
                      <a:off x="4344840" y="1429560"/>
                      <a:ext cx="1617480" cy="21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1582800">
                      <a:off x="5784840" y="1840320"/>
                      <a:ext cx="86832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4372200" y="1056600"/>
                    <a:ext cx="2337840" cy="1004760"/>
                    <a:chOff x="4372200" y="1056600"/>
                    <a:chExt cx="2337840" cy="100476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1080000">
                      <a:off x="4370040" y="1292040"/>
                      <a:ext cx="1562760" cy="23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1080000">
                      <a:off x="5834160" y="1572840"/>
                      <a:ext cx="839520" cy="36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4393800" y="1041480"/>
                    <a:ext cx="2210400" cy="605520"/>
                    <a:chOff x="4393800" y="1041480"/>
                    <a:chExt cx="2210400" cy="60552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463200">
                      <a:off x="4401720" y="1136880"/>
                      <a:ext cx="1439640" cy="21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463200">
                      <a:off x="5810760" y="1254600"/>
                      <a:ext cx="773640" cy="34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4423680" y="1027080"/>
                    <a:ext cx="2007720" cy="257040"/>
                    <a:chOff x="4423680" y="1027080"/>
                    <a:chExt cx="2007720" cy="25704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rot="21515400">
                      <a:off x="4425120" y="1049400"/>
                      <a:ext cx="130824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rot="21515400">
                      <a:off x="5725800" y="1035360"/>
                      <a:ext cx="70236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4381560" y="721080"/>
                    <a:ext cx="1771560" cy="497520"/>
                    <a:chOff x="4381560" y="721080"/>
                    <a:chExt cx="1771560" cy="49752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rot="20797200">
                      <a:off x="4383000" y="937440"/>
                      <a:ext cx="114876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rot="20797200">
                      <a:off x="5517000" y="789120"/>
                      <a:ext cx="617040" cy="23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2077200" y="1377000"/>
                    <a:ext cx="1714680" cy="1620360"/>
                    <a:chOff x="2077200" y="1377000"/>
                    <a:chExt cx="1714680" cy="162036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flipH="1" rot="18888600">
                      <a:off x="2660760" y="1761480"/>
                      <a:ext cx="1205640" cy="2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flipH="1" rot="18888600">
                      <a:off x="2143440" y="2378520"/>
                      <a:ext cx="646560" cy="45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1613520" y="1220400"/>
                    <a:ext cx="2238120" cy="1620720"/>
                    <a:chOff x="1613520" y="1220400"/>
                    <a:chExt cx="2238120" cy="162072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 flipH="1" rot="19496400">
                      <a:off x="2244240" y="1683720"/>
                      <a:ext cx="1690560" cy="24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 rot="19496400">
                      <a:off x="1639800" y="2233800"/>
                      <a:ext cx="907560" cy="38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1567800" y="1204920"/>
                    <a:ext cx="2299680" cy="1267560"/>
                    <a:chOff x="1567800" y="1204920"/>
                    <a:chExt cx="2299680" cy="126756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flipH="1" rot="20017200">
                      <a:off x="2286720" y="1553040"/>
                      <a:ext cx="1617840" cy="21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flipH="1" rot="20017200">
                      <a:off x="1595880" y="1964160"/>
                      <a:ext cx="868320" cy="33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1540080" y="1180440"/>
                    <a:ext cx="2337840" cy="1004400"/>
                    <a:chOff x="1540080" y="1180440"/>
                    <a:chExt cx="2337840" cy="100440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flipH="1" rot="20520000">
                      <a:off x="2316960" y="1415880"/>
                      <a:ext cx="156276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flipH="1" rot="20520000">
                      <a:off x="1575720" y="1696320"/>
                      <a:ext cx="839520" cy="36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1645920" y="1164960"/>
                    <a:ext cx="2210400" cy="605520"/>
                    <a:chOff x="1645920" y="1164960"/>
                    <a:chExt cx="2210400" cy="60552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flipH="1" rot="21136800">
                      <a:off x="2408400" y="1260360"/>
                      <a:ext cx="143964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rot="21136800">
                      <a:off x="1665000" y="1378080"/>
                      <a:ext cx="773640" cy="34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1818360" y="1150920"/>
                    <a:ext cx="2007360" cy="257040"/>
                    <a:chOff x="1818360" y="1150920"/>
                    <a:chExt cx="2007360" cy="25704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84600">
                      <a:off x="2515320" y="1173600"/>
                      <a:ext cx="130824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84600">
                      <a:off x="1820880" y="1159200"/>
                      <a:ext cx="70236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2096280" y="845280"/>
                    <a:ext cx="1771920" cy="496800"/>
                    <a:chOff x="2096280" y="845280"/>
                    <a:chExt cx="1771920" cy="49680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802800">
                      <a:off x="2716920" y="1061280"/>
                      <a:ext cx="1148760" cy="14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802800">
                      <a:off x="2114640" y="913320"/>
                      <a:ext cx="616680" cy="23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2197440" y="672840"/>
                    <a:ext cx="1733400" cy="694800"/>
                    <a:chOff x="2197440" y="672840"/>
                    <a:chExt cx="1733400" cy="69480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1278000">
                      <a:off x="2793960" y="1013760"/>
                      <a:ext cx="114876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1278000">
                      <a:off x="2219040" y="776880"/>
                      <a:ext cx="61704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2411640" y="428040"/>
                    <a:ext cx="1604160" cy="977760"/>
                    <a:chOff x="2411640" y="428040"/>
                    <a:chExt cx="1604160" cy="97776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flipH="1" rot="2028600">
                      <a:off x="2922120" y="948240"/>
                      <a:ext cx="114876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flipH="1" rot="2028600">
                      <a:off x="2424960" y="579240"/>
                      <a:ext cx="616680" cy="23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2626560" y="192240"/>
                    <a:ext cx="1456920" cy="1194840"/>
                    <a:chOff x="2626560" y="192240"/>
                    <a:chExt cx="1456920" cy="119484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 rot="2664600">
                      <a:off x="3031200" y="850320"/>
                      <a:ext cx="116568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 rot="2664600">
                      <a:off x="2619360" y="377280"/>
                      <a:ext cx="626040" cy="23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3081240" y="169200"/>
                    <a:ext cx="999360" cy="1103400"/>
                    <a:chOff x="3081240" y="169200"/>
                    <a:chExt cx="999360" cy="110340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flipH="1" rot="3474000">
                      <a:off x="3405960" y="793080"/>
                      <a:ext cx="76932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rot="3474000">
                      <a:off x="3117600" y="270360"/>
                      <a:ext cx="41328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3386520" y="124200"/>
                    <a:ext cx="779760" cy="1127880"/>
                    <a:chOff x="3386520" y="124200"/>
                    <a:chExt cx="779760" cy="112788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H="1" rot="4126800">
                      <a:off x="3567240" y="769320"/>
                      <a:ext cx="741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 rot="4126800">
                      <a:off x="3405240" y="209520"/>
                      <a:ext cx="398520" cy="31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4289400" y="511200"/>
                    <a:ext cx="1726560" cy="712800"/>
                    <a:chOff x="4289400" y="511200"/>
                    <a:chExt cx="1726560" cy="71280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20274000">
                      <a:off x="4275360" y="863280"/>
                      <a:ext cx="114876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20274000">
                      <a:off x="5377320" y="618120"/>
                      <a:ext cx="616680" cy="23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4193280" y="314280"/>
                    <a:ext cx="1627200" cy="939600"/>
                    <a:chOff x="4193280" y="314280"/>
                    <a:chExt cx="1627200" cy="93960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rot="19678800">
                      <a:off x="4145400" y="810360"/>
                      <a:ext cx="114876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rot="19678800">
                      <a:off x="5187960" y="459360"/>
                      <a:ext cx="616680" cy="23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4" name=""/>
                  <p:cNvSpPr/>
                  <p:nvPr/>
                </p:nvSpPr>
                <p:spPr>
                  <a:xfrm flipH="1" rot="4578600">
                    <a:off x="3722760" y="814320"/>
                    <a:ext cx="71820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H="1" rot="4578600">
                    <a:off x="3688560" y="278280"/>
                    <a:ext cx="386280" cy="21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4102200" y="138600"/>
                    <a:ext cx="821520" cy="1101240"/>
                    <a:chOff x="4102200" y="138600"/>
                    <a:chExt cx="821520" cy="110124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 rot="17742000">
                      <a:off x="3969000" y="782280"/>
                      <a:ext cx="742680" cy="17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rot="17742000">
                      <a:off x="4516920" y="241920"/>
                      <a:ext cx="398160" cy="26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4135320" y="186480"/>
                    <a:ext cx="1286640" cy="1073880"/>
                    <a:chOff x="4135320" y="186480"/>
                    <a:chExt cx="1286640" cy="107388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 rot="18822600">
                      <a:off x="4101480" y="755640"/>
                      <a:ext cx="80748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rot="18822600">
                      <a:off x="4912920" y="281880"/>
                      <a:ext cx="433440" cy="3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4141800" y="163440"/>
                    <a:ext cx="298440" cy="1021320"/>
                    <a:chOff x="4141800" y="163440"/>
                    <a:chExt cx="298440" cy="102132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rot="16696200">
                      <a:off x="3895920" y="808920"/>
                      <a:ext cx="666720" cy="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34200" bIns="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rot="16696200">
                      <a:off x="4173480" y="286560"/>
                      <a:ext cx="357840" cy="12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2378520" y="1413360"/>
                    <a:ext cx="1478880" cy="1757160"/>
                    <a:chOff x="2378520" y="1413360"/>
                    <a:chExt cx="1478880" cy="175716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flipH="1" rot="18336000">
                      <a:off x="2785320" y="1842480"/>
                      <a:ext cx="1205280" cy="2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H="1" rot="18336000">
                      <a:off x="2428920" y="2546280"/>
                      <a:ext cx="646200" cy="45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2904120" y="1488960"/>
                    <a:ext cx="1011600" cy="1737000"/>
                    <a:chOff x="2904120" y="1488960"/>
                    <a:chExt cx="1011600" cy="173700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flipH="1" rot="17543400">
                      <a:off x="3011040" y="1914480"/>
                      <a:ext cx="1115280" cy="2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H="1" rot="17543400">
                      <a:off x="2929320" y="2633760"/>
                      <a:ext cx="598320" cy="45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3431160" y="1526760"/>
                    <a:ext cx="600840" cy="1675080"/>
                    <a:chOff x="3431160" y="1526760"/>
                    <a:chExt cx="600840" cy="167508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flipH="1" rot="16870800">
                      <a:off x="3264840" y="1946160"/>
                      <a:ext cx="1069920" cy="26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H="1" rot="16870800">
                      <a:off x="3400920" y="2674800"/>
                      <a:ext cx="573840" cy="41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4414680" y="1385640"/>
                    <a:ext cx="1535400" cy="1731600"/>
                    <a:chOff x="4414680" y="1385640"/>
                    <a:chExt cx="1535400" cy="173160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rot="3144000">
                      <a:off x="4294440" y="1806480"/>
                      <a:ext cx="1205640" cy="2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rot="3144000">
                      <a:off x="5248440" y="2493360"/>
                      <a:ext cx="646560" cy="45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4358520" y="1454400"/>
                    <a:ext cx="1191600" cy="1761120"/>
                    <a:chOff x="4358520" y="1454400"/>
                    <a:chExt cx="1191600" cy="176112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rot="3745200">
                      <a:off x="4172040" y="1890720"/>
                      <a:ext cx="1153800" cy="27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rot="3745200">
                      <a:off x="4903560" y="2621880"/>
                      <a:ext cx="618840" cy="43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4274640" y="1527840"/>
                    <a:ext cx="834840" cy="1717200"/>
                    <a:chOff x="4274640" y="1527840"/>
                    <a:chExt cx="834840" cy="171720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 rot="4286400">
                      <a:off x="4001400" y="1980000"/>
                      <a:ext cx="111924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rot="4286400">
                      <a:off x="4542840" y="2723400"/>
                      <a:ext cx="600480" cy="35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4199040" y="1606320"/>
                    <a:ext cx="488520" cy="1585800"/>
                    <a:chOff x="4199040" y="1606320"/>
                    <a:chExt cx="488520" cy="158580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rot="4898400">
                      <a:off x="3872520" y="2017080"/>
                      <a:ext cx="102852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rot="4898400">
                      <a:off x="4193280" y="2712600"/>
                      <a:ext cx="552240" cy="35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3759480" y="1635120"/>
                    <a:ext cx="475560" cy="1546200"/>
                    <a:chOff x="3759480" y="1635120"/>
                    <a:chExt cx="475560" cy="154620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 rot="5755200">
                      <a:off x="3593520" y="2055960"/>
                      <a:ext cx="1004760" cy="17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rot="5755200">
                      <a:off x="3654000" y="2761560"/>
                      <a:ext cx="538920" cy="27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89" name=""/>
              <p:cNvGrpSpPr/>
              <p:nvPr/>
            </p:nvGrpSpPr>
            <p:grpSpPr>
              <a:xfrm>
                <a:off x="1644840" y="386640"/>
                <a:ext cx="5262840" cy="4122360"/>
                <a:chOff x="1644840" y="386640"/>
                <a:chExt cx="5262840" cy="4122360"/>
              </a:xfrm>
            </p:grpSpPr>
            <p:grpSp>
              <p:nvGrpSpPr>
                <p:cNvPr id="490" name=""/>
                <p:cNvGrpSpPr/>
                <p:nvPr/>
              </p:nvGrpSpPr>
              <p:grpSpPr>
                <a:xfrm>
                  <a:off x="1644840" y="386640"/>
                  <a:ext cx="5262840" cy="4122360"/>
                  <a:chOff x="1644840" y="386640"/>
                  <a:chExt cx="5262840" cy="412236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V="1">
                    <a:off x="4094640" y="486000"/>
                    <a:ext cx="2813040" cy="2860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>
                    <a:off x="1937160" y="1287360"/>
                    <a:ext cx="2662920" cy="3221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4079160" y="993600"/>
                    <a:ext cx="1648440" cy="3221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H="1">
                    <a:off x="1644480" y="736200"/>
                    <a:ext cx="2775960" cy="3221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>
                    <a:off x="1882440" y="386640"/>
                    <a:ext cx="2335680" cy="3221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3959640" y="1063440"/>
                    <a:ext cx="986760" cy="3221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H="1">
                    <a:off x="3252960" y="473760"/>
                    <a:ext cx="389160" cy="1065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 rot="20253000">
                  <a:off x="4632480" y="1236600"/>
                  <a:ext cx="411840" cy="58500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9" name=""/>
            <p:cNvGrpSpPr/>
            <p:nvPr/>
          </p:nvGrpSpPr>
          <p:grpSpPr>
            <a:xfrm>
              <a:off x="1771560" y="403920"/>
              <a:ext cx="4844520" cy="4228560"/>
              <a:chOff x="1771560" y="403920"/>
              <a:chExt cx="4844520" cy="4228560"/>
            </a:xfrm>
          </p:grpSpPr>
          <p:sp>
            <p:nvSpPr>
              <p:cNvPr id="500" name=""/>
              <p:cNvSpPr/>
              <p:nvPr/>
            </p:nvSpPr>
            <p:spPr>
              <a:xfrm flipH="1">
                <a:off x="3377520" y="1834200"/>
                <a:ext cx="4518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2557800" y="1410480"/>
                <a:ext cx="3954600" cy="322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2755800" y="1203120"/>
                <a:ext cx="1729440" cy="322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1771200" y="984960"/>
                <a:ext cx="2775960" cy="322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137480" y="1219320"/>
                <a:ext cx="439920" cy="322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091040" y="1211400"/>
                <a:ext cx="1159920" cy="322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652280" y="2010960"/>
                <a:ext cx="4518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 rot="19660800">
                <a:off x="3948480" y="1671480"/>
                <a:ext cx="411840" cy="58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2031120" y="1919520"/>
                <a:ext cx="1011240" cy="1065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2507400" y="792720"/>
                <a:ext cx="648360" cy="1065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677560" y="1762560"/>
                <a:ext cx="938520" cy="1119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190120" y="1196280"/>
                <a:ext cx="1414440" cy="745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42320" y="403920"/>
                <a:ext cx="617400" cy="1002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 rot="1347000">
                <a:off x="3162240" y="1221120"/>
                <a:ext cx="411840" cy="58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19120" y="1036800"/>
            <a:ext cx="5873760" cy="9223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6"/>
          </p:nvPr>
        </p:nvSpPr>
        <p:spPr>
          <a:xfrm>
            <a:off x="519120" y="3543120"/>
            <a:ext cx="144000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9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ftr" idx="17"/>
          </p:nvPr>
        </p:nvSpPr>
        <p:spPr>
          <a:xfrm>
            <a:off x="2362320" y="3543120"/>
            <a:ext cx="21873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9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sldNum" idx="18"/>
          </p:nvPr>
        </p:nvSpPr>
        <p:spPr>
          <a:xfrm>
            <a:off x="4952880" y="3543120"/>
            <a:ext cx="144000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9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C0B5BBD8-2F48-4967-867B-FC5077C1C1BF}" type="slidenum">
              <a:rPr b="0" lang="ja-JP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body"/>
          </p:nvPr>
        </p:nvSpPr>
        <p:spPr>
          <a:xfrm>
            <a:off x="345600" y="909720"/>
            <a:ext cx="6220440" cy="22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lvl="1" marL="307800" indent="0" algn="ctr">
              <a:spcBef>
                <a:spcPts val="476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9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1900" spc="-1" strike="noStrike">
              <a:solidFill>
                <a:srgbClr val="ffcc00"/>
              </a:solidFill>
              <a:latin typeface="Arial Black"/>
            </a:endParaRPr>
          </a:p>
          <a:p>
            <a:pPr lvl="2" marL="617400" algn="ctr">
              <a:spcBef>
                <a:spcPts val="400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3" marL="925560" algn="ctr">
              <a:spcBef>
                <a:spcPts val="34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4" marL="1235160" algn="ctr">
              <a:spcBef>
                <a:spcPts val="34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5" marL="1235160">
              <a:spcBef>
                <a:spcPts val="34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6" marL="1235160">
              <a:spcBef>
                <a:spcPts val="34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0" y="0"/>
            <a:ext cx="6924240" cy="3897360"/>
            <a:chOff x="0" y="0"/>
            <a:chExt cx="6924240" cy="3897360"/>
          </a:xfrm>
        </p:grpSpPr>
        <p:sp>
          <p:nvSpPr>
            <p:cNvPr id="556" name=""/>
            <p:cNvSpPr/>
            <p:nvPr/>
          </p:nvSpPr>
          <p:spPr>
            <a:xfrm>
              <a:off x="0" y="3769560"/>
              <a:ext cx="6107400" cy="1278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0" y="0"/>
              <a:ext cx="6107400" cy="113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12360" y="0"/>
              <a:ext cx="909360" cy="38901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5933160" y="360"/>
              <a:ext cx="978480" cy="3578760"/>
              <a:chOff x="5933160" y="360"/>
              <a:chExt cx="978480" cy="357876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6336000" y="360"/>
                <a:ext cx="575640" cy="1287720"/>
                <a:chOff x="6336000" y="360"/>
                <a:chExt cx="575640" cy="1287720"/>
              </a:xfrm>
            </p:grpSpPr>
            <p:grpSp>
              <p:nvGrpSpPr>
                <p:cNvPr id="561" name=""/>
                <p:cNvGrpSpPr/>
                <p:nvPr/>
              </p:nvGrpSpPr>
              <p:grpSpPr>
                <a:xfrm>
                  <a:off x="6579720" y="360"/>
                  <a:ext cx="210960" cy="156600"/>
                  <a:chOff x="6579720" y="360"/>
                  <a:chExt cx="210960" cy="156600"/>
                </a:xfrm>
              </p:grpSpPr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6579720" y="360"/>
                    <a:ext cx="210960" cy="156600"/>
                    <a:chOff x="6579720" y="360"/>
                    <a:chExt cx="210960" cy="15660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 rot="16200000">
                      <a:off x="6627960" y="-47880"/>
                      <a:ext cx="114120" cy="21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 rot="16200000">
                      <a:off x="6629760" y="31680"/>
                      <a:ext cx="79920" cy="17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5" name=""/>
                  <p:cNvSpPr/>
                  <p:nvPr/>
                </p:nvSpPr>
                <p:spPr>
                  <a:xfrm rot="16200000">
                    <a:off x="6672960" y="70200"/>
                    <a:ext cx="15480" cy="201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rot="16200000">
                    <a:off x="6622920" y="36360"/>
                    <a:ext cx="24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rot="16200000">
                    <a:off x="6680160" y="30960"/>
                    <a:ext cx="3636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0" bIns="-18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rot="16200000">
                    <a:off x="6728040" y="57240"/>
                    <a:ext cx="1368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0" bIns="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rot="16200000">
                    <a:off x="6676200" y="105120"/>
                    <a:ext cx="363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rot="16200000">
                    <a:off x="6634440" y="89640"/>
                    <a:ext cx="219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040" bIns="-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336000" y="12924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688800" y="12924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08440" y="30240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451200" y="51840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88800" y="47520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566400" y="69156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688800" y="90756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688800" y="112356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79" name=""/>
              <p:cNvGrpSpPr/>
              <p:nvPr/>
            </p:nvGrpSpPr>
            <p:grpSpPr>
              <a:xfrm>
                <a:off x="5933160" y="907560"/>
                <a:ext cx="626040" cy="2671560"/>
                <a:chOff x="5933160" y="907560"/>
                <a:chExt cx="626040" cy="2671560"/>
              </a:xfrm>
            </p:grpSpPr>
            <p:pic>
              <p:nvPicPr>
                <p:cNvPr id="58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163200" y="90756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220800" y="108036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163200" y="142596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336000" y="155592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48000" y="164232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105960" y="181512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6336000" y="185832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6278760" y="211788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990400" y="198828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5990400" y="220428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163200" y="233388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6278760" y="125316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5933160" y="246348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990400" y="276624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6278760" y="298224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990400" y="306864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6105960" y="319824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5990400" y="341460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220800" y="332820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9" name=""/>
            <p:cNvSpPr/>
            <p:nvPr/>
          </p:nvSpPr>
          <p:spPr>
            <a:xfrm>
              <a:off x="6012360" y="2784240"/>
              <a:ext cx="900000" cy="11005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01560" y="2755440"/>
              <a:ext cx="921600" cy="11343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993280" y="1598400"/>
              <a:ext cx="930960" cy="22899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055560" y="2007000"/>
              <a:ext cx="740520" cy="123912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32320" y="241920"/>
              <a:ext cx="691200" cy="286344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36640" y="148320"/>
              <a:ext cx="687600" cy="174204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05160" y="0"/>
              <a:ext cx="435600" cy="19018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005160" y="720"/>
              <a:ext cx="226800" cy="19018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946480" y="720"/>
              <a:ext cx="66960" cy="38901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015960" y="3533760"/>
              <a:ext cx="880920" cy="3510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5400000">
              <a:off x="3915360" y="1859760"/>
              <a:ext cx="3890160" cy="170280"/>
            </a:xfrm>
            <a:custGeom>
              <a:avLst/>
              <a:gdLst>
                <a:gd name="textAreaLeft" fmla="*/ 375840 w 3890160"/>
                <a:gd name="textAreaRight" fmla="*/ 3514320 w 3890160"/>
                <a:gd name="textAreaTop" fmla="*/ 16200 h 170280"/>
                <a:gd name="textAreaBottom" fmla="*/ 154080 h 17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t" anchorCtr="1" vert="eaVert" rot="10800000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64880" y="128160"/>
            <a:ext cx="5653080" cy="647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7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198360" y="906480"/>
            <a:ext cx="5585040" cy="25509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90000"/>
          </a:bodyPr>
          <a:p>
            <a:pPr marL="208440" indent="-208440">
              <a:spcBef>
                <a:spcPts val="550"/>
              </a:spcBef>
              <a:buSzPct val="102909"/>
              <a:buBlip>
                <a:blip r:embed="rId31"/>
              </a:buBlip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451080" indent="-174240">
              <a:spcBef>
                <a:spcPts val="550"/>
              </a:spcBef>
              <a:buSzPct val="100000"/>
              <a:buBlip>
                <a:blip r:embed="rId32"/>
              </a:buBlip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2" marL="694080" indent="-138600">
              <a:spcBef>
                <a:spcPts val="550"/>
              </a:spcBef>
              <a:buSzPct val="100000"/>
              <a:buBlip>
                <a:blip r:embed="rId33"/>
              </a:buBlip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3" marL="971640" indent="-138600">
              <a:spcBef>
                <a:spcPts val="550"/>
              </a:spcBef>
              <a:buClr>
                <a:srgbClr val="2f1311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4" marL="1250280" indent="-138600">
              <a:spcBef>
                <a:spcPts val="550"/>
              </a:spcBef>
              <a:buClr>
                <a:srgbClr val="2f1311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5" marL="1250280" indent="-138600">
              <a:spcBef>
                <a:spcPts val="550"/>
              </a:spcBef>
              <a:buClr>
                <a:srgbClr val="2f1311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6" marL="1250280" indent="-138600">
              <a:spcBef>
                <a:spcPts val="550"/>
              </a:spcBef>
              <a:buClr>
                <a:srgbClr val="2f1311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19"/>
          </p:nvPr>
        </p:nvSpPr>
        <p:spPr>
          <a:xfrm>
            <a:off x="228600" y="3539880"/>
            <a:ext cx="1347840" cy="26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20"/>
          </p:nvPr>
        </p:nvSpPr>
        <p:spPr>
          <a:xfrm>
            <a:off x="1706400" y="3543120"/>
            <a:ext cx="2611440" cy="26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21"/>
          </p:nvPr>
        </p:nvSpPr>
        <p:spPr>
          <a:xfrm>
            <a:off x="4435560" y="3543120"/>
            <a:ext cx="1326960" cy="26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1FD7AF87-D8CA-460E-B560-E47E01AD7D4B}" type="slidenum">
              <a:rPr b="0" lang="ja-JP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"/>
          <p:cNvGrpSpPr/>
          <p:nvPr/>
        </p:nvGrpSpPr>
        <p:grpSpPr>
          <a:xfrm>
            <a:off x="0" y="0"/>
            <a:ext cx="6924240" cy="3897360"/>
            <a:chOff x="0" y="0"/>
            <a:chExt cx="6924240" cy="3897360"/>
          </a:xfrm>
        </p:grpSpPr>
        <p:sp>
          <p:nvSpPr>
            <p:cNvPr id="652" name=""/>
            <p:cNvSpPr/>
            <p:nvPr/>
          </p:nvSpPr>
          <p:spPr>
            <a:xfrm>
              <a:off x="0" y="3769560"/>
              <a:ext cx="6107400" cy="1278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0" y="0"/>
              <a:ext cx="6107400" cy="113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012360" y="0"/>
              <a:ext cx="909360" cy="38901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5" name=""/>
            <p:cNvGrpSpPr/>
            <p:nvPr/>
          </p:nvGrpSpPr>
          <p:grpSpPr>
            <a:xfrm>
              <a:off x="5933160" y="360"/>
              <a:ext cx="978480" cy="3578760"/>
              <a:chOff x="5933160" y="360"/>
              <a:chExt cx="978480" cy="3578760"/>
            </a:xfrm>
          </p:grpSpPr>
          <p:grpSp>
            <p:nvGrpSpPr>
              <p:cNvPr id="656" name=""/>
              <p:cNvGrpSpPr/>
              <p:nvPr/>
            </p:nvGrpSpPr>
            <p:grpSpPr>
              <a:xfrm>
                <a:off x="6336000" y="360"/>
                <a:ext cx="575640" cy="1287720"/>
                <a:chOff x="6336000" y="360"/>
                <a:chExt cx="575640" cy="1287720"/>
              </a:xfrm>
            </p:grpSpPr>
            <p:grpSp>
              <p:nvGrpSpPr>
                <p:cNvPr id="657" name=""/>
                <p:cNvGrpSpPr/>
                <p:nvPr/>
              </p:nvGrpSpPr>
              <p:grpSpPr>
                <a:xfrm>
                  <a:off x="6579720" y="360"/>
                  <a:ext cx="210960" cy="156600"/>
                  <a:chOff x="6579720" y="360"/>
                  <a:chExt cx="210960" cy="156600"/>
                </a:xfrm>
              </p:grpSpPr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6579720" y="360"/>
                    <a:ext cx="210960" cy="156600"/>
                    <a:chOff x="6579720" y="360"/>
                    <a:chExt cx="210960" cy="1566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16200000">
                      <a:off x="6627960" y="-47880"/>
                      <a:ext cx="114120" cy="21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16200000">
                      <a:off x="6629760" y="31680"/>
                      <a:ext cx="79920" cy="17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1" name=""/>
                  <p:cNvSpPr/>
                  <p:nvPr/>
                </p:nvSpPr>
                <p:spPr>
                  <a:xfrm rot="16200000">
                    <a:off x="6672960" y="70200"/>
                    <a:ext cx="15480" cy="201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rot="16200000">
                    <a:off x="6622920" y="36360"/>
                    <a:ext cx="24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rot="16200000">
                    <a:off x="6680160" y="30960"/>
                    <a:ext cx="3636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0" bIns="-18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 rot="16200000">
                    <a:off x="6728040" y="57240"/>
                    <a:ext cx="1368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0" bIns="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 rot="16200000">
                    <a:off x="6676200" y="105120"/>
                    <a:ext cx="363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 rot="16200000">
                    <a:off x="6634440" y="89640"/>
                    <a:ext cx="219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040" bIns="-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336000" y="12924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688800" y="12924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08440" y="30240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451200" y="51840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88800" y="47520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566400" y="69156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688800" y="90756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688800" y="112356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75" name=""/>
              <p:cNvGrpSpPr/>
              <p:nvPr/>
            </p:nvGrpSpPr>
            <p:grpSpPr>
              <a:xfrm>
                <a:off x="5933160" y="907560"/>
                <a:ext cx="626040" cy="2671560"/>
                <a:chOff x="5933160" y="907560"/>
                <a:chExt cx="626040" cy="2671560"/>
              </a:xfrm>
            </p:grpSpPr>
            <p:pic>
              <p:nvPicPr>
                <p:cNvPr id="67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163200" y="90756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220800" y="108036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163200" y="142596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336000" y="155592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48000" y="164232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105960" y="181512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6336000" y="185832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6278760" y="211788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990400" y="198828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5990400" y="220428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163200" y="233388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6278760" y="125316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5933160" y="246348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990400" y="276624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6278760" y="298224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990400" y="306864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6105960" y="319824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5990400" y="341460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220800" y="332820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95" name=""/>
            <p:cNvSpPr/>
            <p:nvPr/>
          </p:nvSpPr>
          <p:spPr>
            <a:xfrm>
              <a:off x="6012360" y="2784240"/>
              <a:ext cx="900000" cy="11005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001560" y="2755440"/>
              <a:ext cx="921600" cy="11343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993280" y="1598400"/>
              <a:ext cx="930960" cy="22899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055560" y="2007000"/>
              <a:ext cx="740520" cy="123912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32320" y="241920"/>
              <a:ext cx="691200" cy="286344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236640" y="148320"/>
              <a:ext cx="687600" cy="174204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005160" y="0"/>
              <a:ext cx="435600" cy="19018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05160" y="720"/>
              <a:ext cx="226800" cy="19018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46480" y="720"/>
              <a:ext cx="66960" cy="38901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015960" y="3533760"/>
              <a:ext cx="880920" cy="3510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5400000">
              <a:off x="3915360" y="1859760"/>
              <a:ext cx="3890160" cy="170280"/>
            </a:xfrm>
            <a:custGeom>
              <a:avLst/>
              <a:gdLst>
                <a:gd name="textAreaLeft" fmla="*/ 375840 w 3890160"/>
                <a:gd name="textAreaRight" fmla="*/ 3514320 w 3890160"/>
                <a:gd name="textAreaTop" fmla="*/ 16200 h 170280"/>
                <a:gd name="textAreaBottom" fmla="*/ 154080 h 17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t" anchorCtr="1" vert="eaVert" rot="10800000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18760" y="776160"/>
            <a:ext cx="5264280" cy="1167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7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dt" idx="22"/>
          </p:nvPr>
        </p:nvSpPr>
        <p:spPr>
          <a:xfrm>
            <a:off x="228600" y="3539880"/>
            <a:ext cx="1347840" cy="26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ftr" idx="23"/>
          </p:nvPr>
        </p:nvSpPr>
        <p:spPr>
          <a:xfrm>
            <a:off x="1706400" y="3543120"/>
            <a:ext cx="2611440" cy="26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24"/>
          </p:nvPr>
        </p:nvSpPr>
        <p:spPr>
          <a:xfrm>
            <a:off x="4435560" y="3543120"/>
            <a:ext cx="1326960" cy="26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D451C54B-14DD-4563-A266-5BB7EB79B81B}" type="slidenum">
              <a:rPr b="0" lang="ja-JP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body"/>
          </p:nvPr>
        </p:nvSpPr>
        <p:spPr>
          <a:xfrm>
            <a:off x="345600" y="909720"/>
            <a:ext cx="6220440" cy="22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307800" indent="0" algn="ctr">
              <a:spcBef>
                <a:spcPts val="476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9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lvl="2" marL="617400" algn="ctr">
              <a:spcBef>
                <a:spcPts val="400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3" marL="925560" algn="ctr">
              <a:spcBef>
                <a:spcPts val="34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4" marL="1235160" algn="ctr">
              <a:spcBef>
                <a:spcPts val="34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5" marL="1235160">
              <a:spcBef>
                <a:spcPts val="34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6" marL="1235160">
              <a:spcBef>
                <a:spcPts val="34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"/>
          <p:cNvGrpSpPr/>
          <p:nvPr/>
        </p:nvGrpSpPr>
        <p:grpSpPr>
          <a:xfrm>
            <a:off x="0" y="0"/>
            <a:ext cx="6912000" cy="3931920"/>
            <a:chOff x="0" y="0"/>
            <a:chExt cx="6912000" cy="3931920"/>
          </a:xfrm>
        </p:grpSpPr>
        <p:sp>
          <p:nvSpPr>
            <p:cNvPr id="748" name=""/>
            <p:cNvSpPr/>
            <p:nvPr/>
          </p:nvSpPr>
          <p:spPr>
            <a:xfrm>
              <a:off x="0" y="1987560"/>
              <a:ext cx="3017880" cy="177336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0" y="2247120"/>
              <a:ext cx="2534040" cy="14439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510280" y="2910600"/>
              <a:ext cx="4401360" cy="84852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0" y="471600"/>
              <a:ext cx="1167480" cy="107568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25360" y="720"/>
              <a:ext cx="3083760" cy="204012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229640" y="720"/>
              <a:ext cx="2621880" cy="1357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0" y="584280"/>
              <a:ext cx="978840" cy="7254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0" y="1390680"/>
              <a:ext cx="914040" cy="96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76680" y="3088800"/>
              <a:ext cx="3818520" cy="6703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30400" y="114120"/>
              <a:ext cx="1080" cy="72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44800" y="117720"/>
              <a:ext cx="1080" cy="72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0" y="3629520"/>
              <a:ext cx="6912000" cy="259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0" y="3629520"/>
              <a:ext cx="6912000" cy="3024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0" y="0"/>
              <a:ext cx="6912000" cy="259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10920" y="205920"/>
              <a:ext cx="3825360" cy="18219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12800" y="263520"/>
              <a:ext cx="2572560" cy="160848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518280" y="1555560"/>
              <a:ext cx="3393720" cy="212976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791880" y="1674360"/>
              <a:ext cx="2594160" cy="174096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45960" y="156960"/>
            <a:ext cx="6220080" cy="6490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30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345960" y="907560"/>
            <a:ext cx="6220080" cy="25686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90000"/>
          </a:bodyPr>
          <a:p>
            <a:pPr marL="208440" indent="-20844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1080" indent="-174240">
              <a:spcBef>
                <a:spcPts val="55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94080" indent="-138600">
              <a:spcBef>
                <a:spcPts val="55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971640" indent="-138600">
              <a:spcBef>
                <a:spcPts val="5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1250280" indent="-13860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5" marL="1250280" indent="-138600">
              <a:spcBef>
                <a:spcPts val="5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6" marL="1250280" indent="-138600">
              <a:spcBef>
                <a:spcPts val="5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25"/>
          </p:nvPr>
        </p:nvSpPr>
        <p:spPr>
          <a:xfrm>
            <a:off x="345600" y="3543120"/>
            <a:ext cx="16131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26"/>
          </p:nvPr>
        </p:nvSpPr>
        <p:spPr>
          <a:xfrm>
            <a:off x="2362320" y="3543120"/>
            <a:ext cx="21873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27"/>
          </p:nvPr>
        </p:nvSpPr>
        <p:spPr>
          <a:xfrm>
            <a:off x="4952520" y="3543120"/>
            <a:ext cx="16131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ja-JP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4CC493CD-BB25-45A4-A4FD-D2D8E3ED32F0}" type="slidenum">
              <a:rPr b="0" lang="ja-JP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google.co.jp/url?sa=i&amp;rct=j&amp;q=&amp;esrc=s&amp;source=images&amp;cd=&amp;ved=2ahUKEwj3goePuKrjAhUS5bwKHY0DBP8QjRx6BAgBEAU&amp;url=https%3A%2F%2Fwww.irasutoya.com%2F2013%2F01%2Fblog-post_8604.html&amp;psig=AOvVaw3EgPgI1oLOkVCwERGTXbGV&amp;ust=1562851067356945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google.co.jp/url?sa=i&amp;rct=j&amp;q=&amp;esrc=s&amp;source=images&amp;cd=&amp;ved=2ahUKEwiBmZ2ytqrjAhVK2LwKHSpEAukQjRx6BAgBEAU&amp;url=https%3A%2F%2Fwww.irasutoya.com%2F2015%2F02%2Fblog-post_277.html&amp;psig=AOvVaw3oIVoYmhAu6uUG76tCjs9S&amp;ust=1562850617873460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google.co.jp/url?sa=i&amp;rct=j&amp;q=&amp;esrc=s&amp;source=images&amp;cd=&amp;ved=2ahUKEwiRj6nFtKrjAhWLW7wKHbO4BzcQjRx6BAgBEAU&amp;url=https%3A%2F%2Fwww.irasutoya.com%2F2012%2F02%2Fblog-post_9158.html&amp;psig=AOvVaw02BrLOear2A4qXw9cBixfl&amp;ust=1562850098436526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「イラストや　書類提出」の画像検索結果"/>
          <p:cNvPicPr/>
          <p:nvPr/>
        </p:nvPicPr>
        <p:blipFill>
          <a:blip r:embed="rId2"/>
          <a:stretch/>
        </p:blipFill>
        <p:spPr>
          <a:xfrm>
            <a:off x="5040360" y="1440000"/>
            <a:ext cx="2092320" cy="244944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2735280" y="2521080"/>
            <a:ext cx="2663640" cy="1224000"/>
          </a:xfrm>
          <a:prstGeom prst="wedgeEllipseCallout">
            <a:avLst>
              <a:gd name="adj1" fmla="val 45412"/>
              <a:gd name="adj2" fmla="val -4896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GP創英角ﾎﾟｯﾌﾟ体"/>
              </a:rPr>
              <a:t>整理券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GP創英角ﾎﾟｯﾌﾟ体"/>
              </a:rPr>
              <a:t>おとりくださ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144360"/>
            <a:ext cx="6912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Tahoma"/>
                <a:ea typeface="Meiryo UI"/>
              </a:rPr>
              <a:t>受付のご案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16000" y="111456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8f8f8"/>
                </a:solidFill>
                <a:latin typeface="Tahoma"/>
                <a:ea typeface="Meiryo UI"/>
              </a:rPr>
              <a:t>ただいまの時間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8f8f8"/>
                </a:solidFill>
                <a:latin typeface="Tahoma"/>
                <a:ea typeface="Meiryo UI"/>
              </a:rPr>
              <a:t>①②</a:t>
            </a:r>
            <a:r>
              <a:rPr b="1" lang="ja-JP" sz="3600" spc="-1" strike="noStrike">
                <a:solidFill>
                  <a:srgbClr val="f8f8f8"/>
                </a:solidFill>
                <a:latin typeface="Tahoma"/>
                <a:ea typeface="Meiryo UI"/>
              </a:rPr>
              <a:t>窓口へお越しくださ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1942560" y="216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ffcc"/>
                </a:solidFill>
                <a:latin typeface="Tahoma"/>
                <a:ea typeface="Meiryo UI"/>
              </a:rPr>
              <a:t>マスク着用のお願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31640" y="11224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66"/>
                </a:solidFill>
                <a:latin typeface="Tahoma"/>
                <a:ea typeface="Meiryo UI"/>
              </a:rPr>
              <a:t>感染症予防のため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66"/>
                </a:solidFill>
                <a:latin typeface="Tahoma"/>
                <a:ea typeface="Meiryo UI"/>
              </a:rPr>
              <a:t>マスクの着用をおねがいいたします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3" name="" descr="マスクを付けた家族のイラスト（笑顔） | かわいいフリー素材集 いらすとや"/>
          <p:cNvPicPr/>
          <p:nvPr/>
        </p:nvPicPr>
        <p:blipFill>
          <a:blip r:embed="rId1"/>
          <a:stretch/>
        </p:blipFill>
        <p:spPr>
          <a:xfrm>
            <a:off x="4392720" y="1827360"/>
            <a:ext cx="2303280" cy="206208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431640" y="223200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66"/>
                </a:solidFill>
                <a:latin typeface="Tahoma"/>
                <a:ea typeface="Meiryo UI"/>
              </a:rPr>
              <a:t>会話はお控えいただきた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66"/>
                </a:solidFill>
                <a:latin typeface="Tahoma"/>
                <a:ea typeface="Meiryo UI"/>
              </a:rPr>
              <a:t>よろしくお願いします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244600" y="144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cc"/>
                </a:solidFill>
                <a:latin typeface="Tahoma"/>
                <a:ea typeface="Meiryo UI"/>
              </a:rPr>
              <a:t>診察日のご案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74680" y="936720"/>
            <a:ext cx="63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00"/>
                </a:solidFill>
                <a:latin typeface="Tahoma"/>
                <a:ea typeface="Meiryo UI"/>
              </a:rPr>
              <a:t>※</a:t>
            </a:r>
            <a:r>
              <a:rPr b="1" lang="ja-JP" sz="2800" spc="-1" strike="noStrike">
                <a:solidFill>
                  <a:srgbClr val="ffff00"/>
                </a:solidFill>
                <a:latin typeface="Tahoma"/>
                <a:ea typeface="Meiryo UI"/>
              </a:rPr>
              <a:t>3</a:t>
            </a:r>
            <a:r>
              <a:rPr b="1" lang="ja-JP" sz="2800" spc="-1" strike="noStrike">
                <a:solidFill>
                  <a:srgbClr val="ffff00"/>
                </a:solidFill>
                <a:latin typeface="Tahoma"/>
                <a:ea typeface="Meiryo UI"/>
              </a:rPr>
              <a:t>月</a:t>
            </a:r>
            <a:r>
              <a:rPr b="1" lang="ja-JP" sz="2800" spc="-1" strike="noStrike">
                <a:solidFill>
                  <a:srgbClr val="ffff00"/>
                </a:solidFill>
                <a:latin typeface="Tahoma"/>
                <a:ea typeface="Meiryo UI"/>
              </a:rPr>
              <a:t>28</a:t>
            </a:r>
            <a:r>
              <a:rPr b="1" lang="ja-JP" sz="2800" spc="-1" strike="noStrike">
                <a:solidFill>
                  <a:srgbClr val="ffff00"/>
                </a:solidFill>
                <a:latin typeface="Tahoma"/>
                <a:ea typeface="Meiryo UI"/>
              </a:rPr>
              <a:t>日</a:t>
            </a:r>
            <a:r>
              <a:rPr b="1" lang="ja-JP" sz="2800" spc="-1" strike="noStrike">
                <a:solidFill>
                  <a:srgbClr val="ffff00"/>
                </a:solidFill>
                <a:latin typeface="Tahoma"/>
                <a:ea typeface="Meiryo UI"/>
              </a:rPr>
              <a:t>(</a:t>
            </a:r>
            <a:r>
              <a:rPr b="1" lang="ja-JP" sz="2800" spc="-1" strike="noStrike">
                <a:solidFill>
                  <a:srgbClr val="ffff00"/>
                </a:solidFill>
                <a:latin typeface="Tahoma"/>
                <a:ea typeface="Meiryo UI"/>
              </a:rPr>
              <a:t>水</a:t>
            </a:r>
            <a:r>
              <a:rPr b="1" lang="ja-JP" sz="2800" spc="-1" strike="noStrike">
                <a:solidFill>
                  <a:srgbClr val="ffff00"/>
                </a:solidFill>
                <a:latin typeface="Tahoma"/>
                <a:ea typeface="Meiryo UI"/>
              </a:rPr>
              <a:t>) </a:t>
            </a:r>
            <a:r>
              <a:rPr b="1" lang="ja-JP" sz="2800" spc="-1" strike="noStrike">
                <a:solidFill>
                  <a:srgbClr val="ffff00"/>
                </a:solidFill>
                <a:latin typeface="Tahoma"/>
                <a:ea typeface="Meiryo UI"/>
              </a:rPr>
              <a:t>は、終日休診しま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142920" y="1657440"/>
          <a:ext cx="5113440" cy="1857240"/>
        </p:xfrm>
        <a:graphic>
          <a:graphicData uri="http://schemas.openxmlformats.org/drawingml/2006/table">
            <a:tbl>
              <a:tblPr/>
              <a:tblGrid>
                <a:gridCol w="1550880"/>
                <a:gridCol w="509760"/>
                <a:gridCol w="507960"/>
                <a:gridCol w="509400"/>
                <a:gridCol w="507960"/>
                <a:gridCol w="509760"/>
                <a:gridCol w="507960"/>
                <a:gridCol w="509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診察時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火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ff"/>
                          </a:solidFill>
                          <a:latin typeface="HGP創英角ﾎﾟｯﾌﾟ体"/>
                          <a:ea typeface="HGP創英角ﾎﾟｯﾌﾟ体"/>
                        </a:rPr>
                        <a:t>土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ff0000"/>
                          </a:solidFill>
                          <a:latin typeface="HGP創英角ﾎﾟｯﾌﾟ体"/>
                          <a:ea typeface="HGP創英角ﾎﾟｯﾌﾟ体"/>
                        </a:rPr>
                        <a:t>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  </a:t>
                      </a: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9-12</a:t>
                      </a: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14-18</a:t>
                      </a: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18-20</a:t>
                      </a: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78" name="" descr="「イラストや　健康診断」の画像検索結果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40360" y="1944720"/>
            <a:ext cx="187164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2245680" y="144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66ff33"/>
                </a:solidFill>
                <a:latin typeface="Tahoma"/>
                <a:ea typeface="Meiryo UI"/>
              </a:rPr>
              <a:t>駐車場のご案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922320" y="898560"/>
            <a:ext cx="532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Tahoma"/>
                <a:ea typeface="Meiryo UI"/>
              </a:rPr>
              <a:t>お車は、店舗裏側の駐車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Tahoma"/>
                <a:ea typeface="Meiryo UI"/>
              </a:rPr>
              <a:t>「番号①～⑤」をご利用くださ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Tahoma"/>
                <a:ea typeface="Meiryo UI"/>
              </a:rPr>
              <a:t>駐車券を受付にお渡しくださ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1" name="" descr="駐車場のイラスト | かわいいフリー素材集 いらすとや"/>
          <p:cNvPicPr/>
          <p:nvPr/>
        </p:nvPicPr>
        <p:blipFill>
          <a:blip r:embed="rId1"/>
          <a:stretch/>
        </p:blipFill>
        <p:spPr>
          <a:xfrm>
            <a:off x="299880" y="2209680"/>
            <a:ext cx="2076480" cy="176544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3887640" y="2881440"/>
            <a:ext cx="151308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店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879640" y="352908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960720" y="3384720"/>
            <a:ext cx="549360" cy="13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入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887640" y="2449440"/>
            <a:ext cx="1513080" cy="43200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駐車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1806840" y="43164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ffcc"/>
                </a:solidFill>
                <a:latin typeface="Tahoma"/>
                <a:ea typeface="Meiryo UI"/>
              </a:rPr>
              <a:t>いらっしゃいま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158920" y="172872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66"/>
                </a:solidFill>
                <a:latin typeface="Tahoma"/>
                <a:ea typeface="Meiryo UI"/>
              </a:rPr>
              <a:t>ようこそお越しくださいまし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66"/>
                </a:solidFill>
                <a:latin typeface="Tahoma"/>
                <a:ea typeface="Meiryo UI"/>
              </a:rPr>
              <a:t>ごゆっくりおたのしみくださ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8" name="" descr="「イラストや　社長」の画像検索結果"/>
          <p:cNvPicPr/>
          <p:nvPr/>
        </p:nvPicPr>
        <p:blipFill>
          <a:blip r:embed="rId1"/>
          <a:stretch/>
        </p:blipFill>
        <p:spPr>
          <a:xfrm>
            <a:off x="-144360" y="1584360"/>
            <a:ext cx="271764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0" y="144360"/>
            <a:ext cx="6912000" cy="7034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Tahoma"/>
                <a:ea typeface="Meiryo UI"/>
              </a:rPr>
              <a:t>　　　オンラインのご案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654200" y="936720"/>
            <a:ext cx="51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00"/>
                </a:solidFill>
                <a:latin typeface="Tahoma"/>
                <a:ea typeface="Meiryo UI"/>
              </a:rPr>
              <a:t>インターネットでも店舗窓口と同じようにお手続きができます。ぜひご利用くださ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3527280" y="1800360"/>
          <a:ext cx="3013200" cy="1822320"/>
        </p:xfrm>
        <a:graphic>
          <a:graphicData uri="http://schemas.openxmlformats.org/drawingml/2006/table">
            <a:tbl>
              <a:tblPr/>
              <a:tblGrid>
                <a:gridCol w="301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Tahoma"/>
                          <a:ea typeface="Meiryo UI"/>
                        </a:rPr>
                        <a:t>オンラインでできる内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Tahoma"/>
                          <a:ea typeface="Meiryo UI"/>
                        </a:rPr>
                        <a:t>・お新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Tahoma"/>
                          <a:ea typeface="Meiryo UI"/>
                        </a:rPr>
                        <a:t>・コース変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Tahoma"/>
                          <a:ea typeface="Meiryo UI"/>
                        </a:rPr>
                        <a:t>・ご解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92" name="" descr="「イラストや　オペレータ」の画像検索結果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920" y="0"/>
            <a:ext cx="1536480" cy="230508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>
            <a:off x="503280" y="2449440"/>
            <a:ext cx="2663640" cy="1224000"/>
          </a:xfrm>
          <a:prstGeom prst="wedgeEllipseCallout">
            <a:avLst>
              <a:gd name="adj1" fmla="val -41833"/>
              <a:gd name="adj2" fmla="val -62972"/>
            </a:avLst>
          </a:pr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GP創英角ﾎﾟｯﾌﾟ体"/>
              </a:rPr>
              <a:t>「ネットで申込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GP創英角ﾎﾟｯﾌﾟ体"/>
              </a:rPr>
              <a:t>で検索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658160" y="144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3399"/>
                </a:solidFill>
                <a:latin typeface="Tahoma"/>
                <a:ea typeface="Meiryo UI"/>
              </a:rPr>
              <a:t>この付近のイベント情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92040" y="94140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66ffff"/>
                </a:solidFill>
                <a:latin typeface="Tahoma"/>
                <a:ea typeface="Meiryo UI"/>
              </a:rPr>
              <a:t>友達同士、ご家族でエンジョイ！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287280" y="1512720"/>
          <a:ext cx="6120000" cy="2070360"/>
        </p:xfrm>
        <a:graphic>
          <a:graphicData uri="http://schemas.openxmlformats.org/drawingml/2006/table">
            <a:tbl>
              <a:tblPr/>
              <a:tblGrid>
                <a:gridCol w="1297080"/>
                <a:gridCol w="482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Meiryo UI"/>
                        </a:rPr>
                        <a:t>8/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 Black"/>
                          <a:ea typeface="Meiryo UI"/>
                        </a:rPr>
                        <a:t>〇〇花火大会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Meiryo UI"/>
                        </a:rPr>
                        <a:t>8/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Meiryo UI"/>
                        </a:rPr>
                        <a:t>▲▲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 Black"/>
                          <a:ea typeface="Meiryo UI"/>
                        </a:rPr>
                        <a:t>地区盆踊り大会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Meiryo UI"/>
                        </a:rPr>
                        <a:t>8/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 Black"/>
                          <a:ea typeface="Meiryo UI"/>
                        </a:rPr>
                        <a:t>夜のイルミネーショ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Meiryo UI"/>
                        </a:rPr>
                        <a:t>8/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 Black"/>
                          <a:ea typeface="Meiryo UI"/>
                        </a:rPr>
                        <a:t>フェスタ 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 Black"/>
                          <a:ea typeface="Meiryo UI"/>
                        </a:rPr>
                        <a:t>in 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 Black"/>
                          <a:ea typeface="Meiryo UI"/>
                        </a:rPr>
                        <a:t>〇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0" y="144360"/>
            <a:ext cx="6912000" cy="703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5050"/>
                </a:solidFill>
                <a:latin typeface="Tahoma"/>
                <a:ea typeface="Meiryo UI"/>
              </a:rPr>
              <a:t>スタッフからのごあいさつ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42920" y="93672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8f8f8"/>
                </a:solidFill>
                <a:latin typeface="Tahoma"/>
                <a:ea typeface="Meiryo UI"/>
              </a:rPr>
              <a:t>笑顔でお客様のご案内をいたしま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1655640" y="1512720"/>
          <a:ext cx="4716720" cy="1928880"/>
        </p:xfrm>
        <a:graphic>
          <a:graphicData uri="http://schemas.openxmlformats.org/drawingml/2006/table">
            <a:tbl>
              <a:tblPr/>
              <a:tblGrid>
                <a:gridCol w="941400"/>
                <a:gridCol w="377532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名前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19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山本　花子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19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やまもと　はなこ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趣味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スキューバーダイビン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ひとこと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19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ご不明なことがあれ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ja-JP" sz="19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お気軽にお聞きください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00" name="" descr="「イラストや　社員」の画像検索結果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6000" y="1512720"/>
            <a:ext cx="1298520" cy="1440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1370880" y="262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ffcc"/>
                </a:solidFill>
                <a:latin typeface="Tahoma"/>
                <a:ea typeface="Meiryo UI"/>
              </a:rPr>
              <a:t>閉店時間のご案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69880" y="130032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66"/>
                </a:solidFill>
                <a:latin typeface="Tahoma"/>
                <a:ea typeface="Meiryo UI"/>
              </a:rPr>
              <a:t>本日は午後７時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66"/>
                </a:solidFill>
                <a:latin typeface="Tahoma"/>
                <a:ea typeface="Meiryo UI"/>
              </a:rPr>
              <a:t>閉店いたします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529080" y="2546280"/>
            <a:ext cx="1727280" cy="1195560"/>
          </a:xfrm>
          <a:prstGeom prst="wedgeEllipseCallout">
            <a:avLst>
              <a:gd name="adj1" fmla="val 28217"/>
              <a:gd name="adj2" fmla="val -57833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GP創英角ﾎﾟｯﾌﾟ体"/>
              </a:rPr>
              <a:t>ご了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GP創英角ﾎﾟｯﾌﾟ体"/>
              </a:rPr>
              <a:t>くださ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4" name="" descr="ご案内】□営業時間短縮のお知らせ□12時をもちまして買取終了・13時閉店とさせていただきます。 - 万代書店 伊勢崎店"/>
          <p:cNvPicPr/>
          <p:nvPr/>
        </p:nvPicPr>
        <p:blipFill>
          <a:blip r:embed="rId1"/>
          <a:stretch/>
        </p:blipFill>
        <p:spPr>
          <a:xfrm>
            <a:off x="4673520" y="490680"/>
            <a:ext cx="2219400" cy="322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10T11:59:45Z</dcterms:created>
  <dc:creator>corei7</dc:creator>
  <dc:description/>
  <dc:language>en-US</dc:language>
  <cp:lastModifiedBy>ryzen5</cp:lastModifiedBy>
  <dcterms:modified xsi:type="dcterms:W3CDTF">2021-02-27T16:41:30Z</dcterms:modified>
  <cp:revision>43</cp:revision>
  <dc:subject/>
  <dc:title>スライド 1</dc:title>
</cp:coreProperties>
</file>